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3E4B0-2483-459A-A8DD-0E0569DC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4E356-AB00-4F15-BE9A-990E5B1A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2FB4-8C40-4ACE-A239-04A7CDC3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03D3-632C-44DF-AED7-7E21A660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C16D-1C79-4B9E-B52D-6568758E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90FF-2721-4E74-8BA0-25C7FC1D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BBD4-66D6-4A2F-803D-F3F8E136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DEFD-9860-4243-AC72-56E6E3C7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075F-94EA-4D95-A664-2356753C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623E-9401-4007-9E6F-2D407082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377A-A0CB-4B12-A12F-3D2CF8AC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F7B4-7D47-4FC9-A1A3-D09F843C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7478-E69D-4A5A-A6AD-EF2E0064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0210-3492-4CA5-B71C-C62EE2EB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B9F1-FF5F-443B-8D83-2872E7F4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45CA-975F-4C2F-9EF3-916CF42C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03BC-3019-400E-837A-9B878150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3DD4-738B-4797-9F91-E421BC06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71916-B4F2-4CF9-BEE0-66570743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0855-5098-4B37-970A-DD32E7A5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6B8B-8D54-44F2-B5B4-5F6C2579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A5BA-5077-451B-8526-CC7C25A6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D3C31-056B-4EAB-B15A-0DC5014A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1A592-B613-4260-B03A-C9CC6921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6EC9-6BB6-442C-A515-F6C0111EC4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3B77-DB74-4091-ADAF-1C7627C849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5e5ff"/>
                </a:solidFill>
                <a:uFillTx/>
                <a:latin typeface="Garamond"/>
              </a:rPr>
              <a:t>Canonical LR Parsing Tabl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Construction of the canonical LR parsing tab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pu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An augmented grammar G’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tpu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The canonical LR parsing table functions action and goto for G’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tho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    Construct C= {I0, I1…... In}, the collection of sets of LR (1) items for G’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    State I of the parser is constructed from Ii.   The parsing actions for state I are determined as follows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)      If [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α. a β, b] is in Ii, and goto (Ii, a) = Ij, then         set action [i, a] to “shift j.” Here, a is required to be a   termin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)      If [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α., a] is in Ii, A ≠ S’, then set action [i, a] to “reduce 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α.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)      If [S’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., $] is in Ii, then set action [i, $] to “accept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a conflict results from above rules, the grammar is said not to be LR (1), and the algorithm is said to be fai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  The goto transition for state  i are determined  as follows: If goto(Ii , A)= Ij ,then goto[i,A]=j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   All entries not defined by rules(2) and (3) are made “error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    The initial state of the parser is the one constructed from the set containing ite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S’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S, $]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mitted b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run Chauh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4CS102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Construction of the sets of LR (1) item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put: An augmented grammar G’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tput: The sets of LR (1) items that are the set of items valid for one or more viable prefixes of G’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thod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ree functions are defin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osure(), goto(), items(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unction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osure (I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item [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α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β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] 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productio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γ 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'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each terminal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FIRST (β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ch that [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γ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] is not 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[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γ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] to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ntil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 mor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tem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an be added to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tur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unctio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goto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(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I, X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g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the set of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tem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[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β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]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β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] is 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tur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losu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nd;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procedure </a:t>
            </a:r>
            <a:r>
              <a:rPr b="0" i="1" lang="en-US" sz="4400" spc="-1" strike="noStrike">
                <a:solidFill>
                  <a:srgbClr val="e5e5ff"/>
                </a:solidFill>
                <a:latin typeface="Garamond"/>
              </a:rPr>
              <a:t>item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(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G'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)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 :=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{closure ({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'</a:t>
            </a:r>
            <a:r>
              <a:rPr b="0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, $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})}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set of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tem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each gramma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ymbol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ch tha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oto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is not empty and not 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oto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to 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ntil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 mor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tem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an be added to 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end;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the following augmented grammar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’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c | 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3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initial set of items is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0  :   S’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.S, $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.CC, $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.Cc, c | 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.d, c | 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 have next set of items as: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1  :  S’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., $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2  :  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.Cc, $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.Cc, $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.d, $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3  : C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.C, $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.c C, c |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.d, $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4  : C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d. , c | 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5  :  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CC. , $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6  :  C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c.C, $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.c C, $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.d, $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7  :  C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d. , $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8  :  C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c C. , c | 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9  :  C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c C. , $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run</cp:lastModifiedBy>
  <dcterms:modified xsi:type="dcterms:W3CDTF">2006-11-02T08:25:4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