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C5EF-EAF2-4126-BB7E-81D525F64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lean expressions are composed of the Boolean operators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applied to the elements that are Boolean variables or relational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(A &lt; B) goto 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o 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1:   If (C &lt; D) goto 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o 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2:   Code for correct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3:   Code for incorrect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(A &lt; B) goto 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o 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1:   If (C &lt; D) goto 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o 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2:   Code for correct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3:   Code for incorrect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AD2-5DD7-47D0-9050-DDDA300E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DCD-7411-4182-B2CC-517AF36B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15A-F404-4167-9D35-7E640A1D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C5F-1862-47DB-BA2B-ADB2278E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63DC-8643-476B-AD6E-D9DF0C1F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E329-D503-4E6F-A85E-A5C4320E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9D8C-5D59-4D9E-AD11-F9CD538F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011D-63DA-4276-85F6-83E0D0EB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DA03-B81A-41F4-987F-80F6E8AA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604D-9A0F-4F3B-8D6D-28079EBB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E7AC-1B61-428E-8E5E-2A54A287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BE3-9A9E-4745-9FAD-5514424D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4B13-9255-485C-B0B2-82B66976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1300-8BB1-43AB-BBD5-C90B31BB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9928-2D63-4F61-AB0E-FEFFDF67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7A01-FA73-4E62-B605-90E6822C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49EA-B13E-43B4-81EF-92B57DAA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294-570C-4171-BBF4-FE7D64E4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D3E-D460-4193-A1CA-11566C19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4528-F250-4FDF-81E4-5E3491BF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D42-8155-4D33-9F3A-49827DC0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6ED-14E9-4E82-823C-6E245806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5E0-E3AA-4EB2-81E8-28C275DB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647-F8A9-4C1E-AFB3-2906E17E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45C4-BD97-4524-A430-05BB723C7B7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9A0E-EB4B-4C8D-8465-666F0C643BD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1333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b9efee"/>
                </a:solidFill>
                <a:uFillTx/>
                <a:latin typeface="Garamond"/>
              </a:rPr>
              <a:t>Three  Address  Code  Generations  for  Boolean  Functions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: Arindam Kh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Intoduction: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Garamond"/>
              </a:rPr>
              <a:t>Boolean expressi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: composed of the </a:t>
            </a:r>
            <a:r>
              <a:rPr b="0" lang="en-US" sz="2400" spc="-1" strike="noStrike">
                <a:solidFill>
                  <a:srgbClr val="b9efee"/>
                </a:solidFill>
                <a:latin typeface="Garamond"/>
              </a:rPr>
              <a:t>Boolean operator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400" spc="-1" strike="noStrike">
                <a:solidFill>
                  <a:srgbClr val="6ab475"/>
                </a:solidFill>
                <a:latin typeface="Garamond"/>
              </a:rPr>
              <a:t>and</a:t>
            </a:r>
            <a:r>
              <a:rPr b="0" lang="en-US" sz="2400" spc="-1" strike="noStrike">
                <a:solidFill>
                  <a:srgbClr val="6ab475"/>
                </a:solidFill>
                <a:latin typeface="Garamond"/>
              </a:rPr>
              <a:t>, </a:t>
            </a:r>
            <a:r>
              <a:rPr b="0" i="1" lang="en-US" sz="2400" spc="-1" strike="noStrike">
                <a:solidFill>
                  <a:srgbClr val="6ab475"/>
                </a:solidFill>
                <a:latin typeface="Garamond"/>
              </a:rPr>
              <a:t>or</a:t>
            </a:r>
            <a:r>
              <a:rPr b="0" lang="en-US" sz="2400" spc="-1" strike="noStrike">
                <a:solidFill>
                  <a:srgbClr val="6ab475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400" spc="-1" strike="noStrike">
                <a:solidFill>
                  <a:srgbClr val="6ab475"/>
                </a:solidFill>
                <a:latin typeface="Garamond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applied to </a:t>
            </a:r>
            <a:r>
              <a:rPr b="0" lang="en-US" sz="2400" spc="-1" strike="noStrike">
                <a:solidFill>
                  <a:srgbClr val="b9efee"/>
                </a:solidFill>
                <a:latin typeface="Garamond"/>
              </a:rPr>
              <a:t>Boolean variabl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lang="en-US" sz="2400" spc="-1" strike="noStrike">
                <a:solidFill>
                  <a:srgbClr val="b9efee"/>
                </a:solidFill>
                <a:latin typeface="Garamond"/>
              </a:rPr>
              <a:t>relational expressi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Garamond"/>
              </a:rPr>
              <a:t>Primary purpo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 compute logical valu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 used as </a:t>
            </a:r>
            <a:r>
              <a:rPr b="0" lang="en-US" sz="2400" spc="-1" strike="noStrike">
                <a:solidFill>
                  <a:srgbClr val="b9efee"/>
                </a:solidFill>
                <a:latin typeface="Garamond"/>
              </a:rPr>
              <a:t>conditional expressi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 </a:t>
            </a:r>
            <a:r>
              <a:rPr b="0" lang="en-US" sz="2400" spc="-1" strike="noStrike">
                <a:solidFill>
                  <a:srgbClr val="6ab475"/>
                </a:solidFill>
                <a:latin typeface="Garamond"/>
              </a:rPr>
              <a:t>control-flow-statemen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ke if-then, if-then-else, while-do statemen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Garamond"/>
              </a:rPr>
              <a:t>Relational expressi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0" lang="en-US" sz="2400" spc="-1" strike="noStrike">
                <a:solidFill>
                  <a:srgbClr val="b9efee"/>
                </a:solidFill>
                <a:latin typeface="Garamond"/>
              </a:rPr>
              <a:t>A relop 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ere A &amp; B are arithmetic expressions. Relop can be of the following types : &lt; , &gt; , &lt;= , &gt;= , == , != etc. 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Three Address Code Generation: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Garamond"/>
              </a:rPr>
              <a:t>Ta-code for Jump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can be of two types 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n-US" sz="2400" spc="-1" strike="noStrike">
                <a:solidFill>
                  <a:srgbClr val="6ab475"/>
                </a:solidFill>
                <a:latin typeface="Garamond"/>
              </a:rPr>
              <a:t>if (X relop Y)    goto L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Conditional Jum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n-US" sz="2400" spc="-1" strike="noStrike">
                <a:solidFill>
                  <a:srgbClr val="6ab475"/>
                </a:solidFill>
                <a:latin typeface="Garamond"/>
              </a:rPr>
              <a:t>goto L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Unconditional Jum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xample 1. </a:t>
            </a:r>
            <a:r>
              <a:rPr b="1" lang="en-US" sz="2400" spc="-1" strike="noStrike">
                <a:solidFill>
                  <a:srgbClr val="33cccc"/>
                </a:solidFill>
                <a:latin typeface="Book Antiqua"/>
              </a:rPr>
              <a:t>if (A&lt;B and C&lt;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86200"/>
            <a:ext cx="556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ee Address co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400" spc="-1" strike="noStrike">
                <a:solidFill>
                  <a:srgbClr val="00ff99"/>
                </a:solidFill>
                <a:latin typeface="Garamond"/>
              </a:rPr>
              <a:t>If (A &lt; B) goto L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Garamond"/>
              </a:rPr>
              <a:t>        </a:t>
            </a:r>
            <a:r>
              <a:rPr b="0" lang="en-US" sz="2400" spc="-1" strike="noStrike">
                <a:solidFill>
                  <a:srgbClr val="00ff99"/>
                </a:solidFill>
                <a:latin typeface="Garamond"/>
              </a:rPr>
              <a:t>Goto L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Garamond"/>
              </a:rPr>
              <a:t>L1:   If (C &lt; D) goto L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Garamond"/>
              </a:rPr>
              <a:t>        </a:t>
            </a:r>
            <a:r>
              <a:rPr b="0" lang="en-US" sz="2400" spc="-1" strike="noStrike">
                <a:solidFill>
                  <a:srgbClr val="00ff99"/>
                </a:solidFill>
                <a:latin typeface="Garamond"/>
              </a:rPr>
              <a:t>Goto L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Garamond"/>
              </a:rPr>
              <a:t>L2:   Code for correct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Garamond"/>
              </a:rPr>
              <a:t>L3:   Code for incorrect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More Exampl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33cccc"/>
                </a:solidFill>
                <a:latin typeface="Garamond"/>
              </a:rPr>
              <a:t>Example 2. if (A&lt;B or B&lt;D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Garamond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hree Address Cod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If (A &lt; B) goto L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Goto L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L1:  If (C &lt; D) goto L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      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Goto L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L2:  Code for correct condi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L3:  Code for incorrect condi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Garamond"/>
              </a:rPr>
              <a:t>Example 3. a </a:t>
            </a:r>
            <a:r>
              <a:rPr b="1" i="1" lang="en-US" sz="2000" spc="-1" strike="noStrike">
                <a:solidFill>
                  <a:srgbClr val="33cccc"/>
                </a:solidFill>
                <a:latin typeface="Garamond"/>
              </a:rPr>
              <a:t>or</a:t>
            </a:r>
            <a:r>
              <a:rPr b="1" lang="en-US" sz="2000" spc="-1" strike="noStrike">
                <a:solidFill>
                  <a:srgbClr val="33cccc"/>
                </a:solidFill>
                <a:latin typeface="Garamond"/>
              </a:rPr>
              <a:t> b </a:t>
            </a:r>
            <a:r>
              <a:rPr b="1" i="1" lang="en-US" sz="2000" spc="-1" strike="noStrike">
                <a:solidFill>
                  <a:srgbClr val="33cccc"/>
                </a:solidFill>
                <a:latin typeface="Garamond"/>
              </a:rPr>
              <a:t>and no</a:t>
            </a:r>
            <a:r>
              <a:rPr b="1" lang="en-US" sz="2000" spc="-1" strike="noStrike">
                <a:solidFill>
                  <a:srgbClr val="33cccc"/>
                </a:solidFill>
                <a:latin typeface="Garamond"/>
              </a:rPr>
              <a:t>t 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hree Address Cod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t1 = </a:t>
            </a:r>
            <a:r>
              <a:rPr b="0" i="1" lang="en-US" sz="2000" spc="-1" strike="noStrike">
                <a:solidFill>
                  <a:srgbClr val="b9efee"/>
                </a:solidFill>
                <a:latin typeface="Garamond"/>
              </a:rPr>
              <a:t>not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t2 = b </a:t>
            </a:r>
            <a:r>
              <a:rPr b="0" i="1" lang="en-US" sz="2000" spc="-1" strike="noStrike">
                <a:solidFill>
                  <a:srgbClr val="b9efee"/>
                </a:solidFill>
                <a:latin typeface="Garamond"/>
              </a:rPr>
              <a:t>and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t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t3 = a </a:t>
            </a:r>
            <a:r>
              <a:rPr b="0" i="1" lang="en-US" sz="2000" spc="-1" strike="noStrike">
                <a:solidFill>
                  <a:srgbClr val="b9efee"/>
                </a:solidFill>
                <a:latin typeface="Garamond"/>
              </a:rPr>
              <a:t>or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t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t=a&lt;b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Garamond"/>
              </a:rPr>
              <a:t>Using Previous Method 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if </a:t>
            </a:r>
            <a:r>
              <a:rPr b="0" i="1" lang="en-US" sz="2000" spc="-1" strike="noStrike">
                <a:solidFill>
                  <a:srgbClr val="b9efee"/>
                </a:solidFill>
                <a:latin typeface="Garamond"/>
              </a:rPr>
              <a:t>a&lt;b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goto L1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goto L2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L1:     t  = 1;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goto L3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L2:     t  =0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L3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Garamond"/>
              </a:rPr>
              <a:t>Replacing Labels by Address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if </a:t>
            </a:r>
            <a:r>
              <a:rPr b="0" i="1" lang="en-US" sz="2000" spc="-1" strike="noStrike">
                <a:solidFill>
                  <a:srgbClr val="b9efee"/>
                </a:solidFill>
                <a:latin typeface="Garamond"/>
              </a:rPr>
              <a:t>a&lt;b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goto nextstat+3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t  = 0 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goto nextstat+2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b9efee"/>
                </a:solidFill>
                <a:latin typeface="Garamond"/>
              </a:rPr>
              <a:t>t  = 1 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irban saha</cp:lastModifiedBy>
  <dcterms:modified xsi:type="dcterms:W3CDTF">2006-11-13T13:16:17Z</dcterms:modified>
  <cp:revision>7</cp:revision>
  <dc:subject/>
  <dc:title>PowerPoint Presentation</dc:title>
</cp:coreProperties>
</file>