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89C00-F6C4-441B-A117-F4514BC85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3CCE8-B68F-4958-9027-C9C226C5B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CA6DC-7D30-4D56-A399-7BCEE1579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B4AB5-0275-4EF4-A877-B8145E7AC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D2B3A-7DFD-4DF9-AD12-2B6C3B79B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3BFE9-D186-4459-9FD4-DB1ECDCCB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A829F-48F3-454F-8D0A-485F6C4E5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90E1D-89BF-4143-89A1-840527CFF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8DC4E-50F2-43BD-A3CF-823BB67E5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18345-1701-452F-BF1D-6026541E5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A4503-D179-46C5-96EB-E77284B0F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E0C2A-6A57-4644-BEF2-E16365BB3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3AB6-F524-4C1A-94FB-FC4DF9A7F4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TTOM-UP PARS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580920"/>
            <a:ext cx="6400800" cy="2514600"/>
          </a:xfrm>
          <a:prstGeom prst="rect">
            <a:avLst/>
          </a:prstGeom>
          <a:noFill/>
          <a:ln w="0">
            <a:noFill/>
          </a:ln>
        </p:spPr>
        <p:txBody>
          <a:bodyPr lIns="90000" rIns="90000" tIns="46800" bIns="46800" anchor="t">
            <a:noAutofit/>
          </a:bodyPr>
          <a:p>
            <a:pPr marL="3049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ottom-up parsing we start with the sentence and try to apply theproduction rules in reverse, in order to finish up with the start symbol of the grammar. This corresponds to starting at the leaves of the parse tree, and working back to the root.It can be thought of</a:t>
            </a:r>
            <a:endParaRPr b="0" lang="en-US" sz="1800" spc="-1" strike="noStrike">
              <a:solidFill>
                <a:srgbClr val="000000"/>
              </a:solidFill>
              <a:latin typeface="Arial"/>
            </a:endParaRPr>
          </a:p>
          <a:p>
            <a:pPr marL="3049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of reducing the string in question to the start symbol of the grammar</a:t>
            </a:r>
            <a:endParaRPr b="0" lang="en-US" sz="1800" spc="-1" strike="noStrike">
              <a:solidFill>
                <a:srgbClr val="000000"/>
              </a:solidFill>
              <a:latin typeface="Arial"/>
            </a:endParaRPr>
          </a:p>
          <a:p>
            <a:pPr marL="3049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tom-up parsing is also known as shift-reduce parsing</a:t>
            </a:r>
            <a:endParaRPr b="0" lang="en-US" sz="1800" spc="-1" strike="noStrike">
              <a:solidFill>
                <a:srgbClr val="000000"/>
              </a:solidFill>
              <a:latin typeface="Arial"/>
            </a:endParaRPr>
          </a:p>
          <a:p>
            <a:pPr marL="3049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ppose we have a grammar</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 -&gt; aABe</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gt;Abc | b</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 -&gt;d</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d the input string is:       abbcde</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n an instance of bottom-up parsing can be given as</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Ade -&gt; aABe -&gt; S</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re in the first step we  used the derivation B -&gt; d and then the derivation S -&gt; aABe</a:t>
            </a:r>
            <a:endParaRPr b="0" lang="en-US" sz="1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us this process is like tracing out the right most derivations in reve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IGHT DERIVATION</a:t>
            </a:r>
            <a:br>
              <a:rPr sz="2800"/>
            </a:b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Derivation is expanding of the rightmost non-termi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xt of the above example right derivations can be shown 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 -&gt; aABe -&gt; aAde -&gt; aAbcde -&gt; abbcd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n each step we have expanded the rightmost non-term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Arial"/>
              </a:rPr>
              <a:t>HANDLE</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handle is a substring that matches the right hand side of a production and replac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HS by LHS must be step in the  reverse  </a:t>
            </a:r>
            <a:r>
              <a:rPr b="1" lang="en-US" sz="1800" spc="-1" strike="noStrike">
                <a:solidFill>
                  <a:srgbClr val="000000"/>
                </a:solidFill>
                <a:latin typeface="Arial"/>
              </a:rPr>
              <a:t>rightmost derivation </a:t>
            </a:r>
            <a:r>
              <a:rPr b="0" lang="en-US" sz="1800" spc="-1" strike="noStrike">
                <a:solidFill>
                  <a:srgbClr val="000000"/>
                </a:solidFill>
                <a:latin typeface="Arial"/>
              </a:rPr>
              <a:t> that ultimately leads to the start symbol.If replacing a string does not ultimately lead to the start symbol it can’t be a hand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he above example </a:t>
            </a:r>
            <a:r>
              <a:rPr b="1" lang="en-US" sz="1800" spc="-1" strike="noStrike">
                <a:solidFill>
                  <a:srgbClr val="000000"/>
                </a:solidFill>
                <a:latin typeface="Arial"/>
              </a:rPr>
              <a:t>Abc  </a:t>
            </a:r>
            <a:r>
              <a:rPr b="0" lang="en-US" sz="1800" spc="-1" strike="noStrike">
                <a:solidFill>
                  <a:srgbClr val="000000"/>
                </a:solidFill>
                <a:latin typeface="Arial"/>
              </a:rPr>
              <a:t>is an example of a hand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 -&gt; aABe -&gt; aAde -&gt; a</a:t>
            </a:r>
            <a:r>
              <a:rPr b="1" lang="en-US" sz="1800" spc="-1" strike="noStrike">
                <a:solidFill>
                  <a:srgbClr val="000000"/>
                </a:solidFill>
                <a:latin typeface="Arial"/>
              </a:rPr>
              <a:t>Abc</a:t>
            </a:r>
            <a:r>
              <a:rPr b="0" lang="en-US" sz="1800" spc="-1" strike="noStrike">
                <a:solidFill>
                  <a:srgbClr val="000000"/>
                </a:solidFill>
                <a:latin typeface="Arial"/>
              </a:rPr>
              <a:t>de -&gt; abbc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6T21:40:14Z</dcterms:created>
  <dc:creator>iit</dc:creator>
  <dc:description/>
  <dc:language>en-US</dc:language>
  <cp:lastModifiedBy>iit</cp:lastModifiedBy>
  <dcterms:modified xsi:type="dcterms:W3CDTF">2006-09-16T21:51:59Z</dcterms:modified>
  <cp:revision>2</cp:revision>
  <dc:subject/>
  <dc:title>BOTTOM-UP PARSER</dc:title>
</cp:coreProperties>
</file>