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A50-04F3-4955-957E-02861F29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433-D2B6-4CC6-A818-912C539F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80E-4E37-4025-ADB1-0E1F5783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1D5-1B3F-49BC-B4BE-EE10D109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BCC-EE8A-4CF7-AF0D-958315AB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2D4-AFBF-4EE6-AA60-957F2E60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6AE-F905-4A77-94C6-74C7B8BF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893-11B0-4789-B016-D1517219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42E-9027-466A-BFA6-C37D5DB1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022-0F10-4104-A644-F26D2676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C7B-3D98-4350-BB39-936191A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B01-968D-4013-81C3-D2D4E013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987C-D828-48DE-8D26-4AF18E5B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1960" y="0"/>
            <a:ext cx="9638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INE FUNCTION AND MACRO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 is processed at precompilatio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line function is processed at compilatio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: let us consider this C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max(int a,int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&gt; b) ? a : b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max(int a,int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&gt; b) ? a : b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=1,b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max(++a,++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ax(++a,++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4120" y="189000"/>
            <a:ext cx="8835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 program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cromax(MACRO) , a and b are incremented twice. This is because here ++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++b are copied instead of a and b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linemax(INLINE FUNCTION), a and b are incremented only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EXICAL ANALY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LE OF LEXICAL ANALYS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first phase of the compiler. It reads the input characters and produ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utput a sequence of tokens  that the parser uses for syntax analysis.it also stri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from the source program comments and white spaces in the form of blank , tab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ewline characters .it also correlates error messages from the compiler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here merging of  lexical analyser and syntax analyzer is possible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SYNTAX ANALY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57320" y="1590840"/>
            <a:ext cx="7029360" cy="36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1240" y="3846600"/>
            <a:ext cx="774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LEXICAL ANALYSER WITH L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Lex program (lex.l) --------------&gt;LEX COMPILER---------------------&gt;lex.yy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lex.yy.c ----------------&gt;C COMPILER --------------------&gt; a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input stream -----------------&gt; a.out ----------------&gt; sequences of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89400" y="3465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of lexical analyzer with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5320" y="264960"/>
            <a:ext cx="8113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TOKE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TIFIERS :  has attributes …which contains entry point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 :  two types (1) integer , and (2)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S : (if, while , for , e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S : * ,+ ,(, )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: &lt;,&lt;=,=,&lt;&gt;,&gt;,&gt;=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TUATIONS : , and ; and :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L STRINGS : printf (“hell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a  _(underscore) or alphabet followed by digit / alphabet /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_ _ [digit] is a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_ _ is not a variabl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_ _ [alphabet] is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  FOR IDENTIFIE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_ ) (alphabet / _ digit ) (alphabet / digit / _ )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9360" y="264960"/>
            <a:ext cx="7960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EXICAL ANALYZER USING LEX 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lex tools one can build a lexical analyzer in an easy way. For this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fication of a lexical analyzer is prepared by creating a program lex.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x language. Then, lex.l is run through the Lex compiler to produce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lex.yy.c . The program lex.yy.c consists of a tabular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 trasition diagram constructed from the regular expressions of lex.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gether with a standard routine that uses the table  to recognize lex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ions associated with regular expressions in lex.l are pieces of C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re carried over directly to lex.yy.c . Finally, lex.yy.c is run through the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r to produce an object program a.out, which is the lexical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transforms an input stream into a sequence of tok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60800" y="567540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lexical analyzer with L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360" y="189000"/>
            <a:ext cx="8320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 SPEC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x program cinsists of three pa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lary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larations section includes declarations of variables,manifest consta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gular defin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lation rules of a Lex program are statements of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        {  action1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        {  action2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         {  action n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each p is a regular expression and each action is a program fra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ing what action the lexical analyzer should take when pattern p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x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section holds whatever auxiliary procedures are needed by the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17:05:33Z</dcterms:created>
  <dc:creator>ROSY</dc:creator>
  <dc:description/>
  <dc:language>en-US</dc:language>
  <cp:lastModifiedBy>ROSY</cp:lastModifiedBy>
  <dcterms:modified xsi:type="dcterms:W3CDTF">2006-09-16T18:07:54Z</dcterms:modified>
  <cp:revision>2</cp:revision>
  <dc:subject/>
  <dc:title>Slide 1</dc:title>
</cp:coreProperties>
</file>