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09A-F60D-4264-879B-9536991C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397-65F5-4158-AFA3-D25C81F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03D-E600-4A68-B286-0A1D8753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203-310B-44FC-AEE0-3302CDCE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622A-D34C-4A47-97B4-5358A264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8AE2-9E70-4643-A126-E16AA7D6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7373-C803-43F0-97E1-79B068CD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2F87-4F47-4ED0-BCA1-B219FB77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52AD-9920-44D6-A78A-EBAA6407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4990-1F4E-4EFF-82F7-2E2132BA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66FF-31EF-45B9-AA64-8077717B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A04-AA10-4971-AD0C-2E63AD57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D8A-A3F2-4132-A506-725B85FE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E0A7-5157-45F0-B38F-DCDDDC25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DE6F-9193-41D1-9E7D-1D1A005D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ADB-2806-4047-8145-CFB16495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4996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1428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44996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1428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BDE8-FF9C-4466-A84D-7D98F94A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9661-8D18-4822-8CA4-2D9FC6ED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8F92-4D45-455D-8B28-3FD6EA58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00F7-7924-4FB9-B03D-3D87D526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C4FC-80B5-4FD0-8DFF-35A10EAA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FB7E-B822-4811-93CB-DAD5DF90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CB2-CF9B-48B2-A752-80762CA0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D694-932B-4252-B244-B18D3B32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DBAD-D1BA-4353-96BC-BC4E665D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C260-45A3-44C6-B644-AF3573A5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39E1-BFE7-451D-91A8-D397D8E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8BC2-32F7-4863-8812-B62B181F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8EE2-562E-4977-93D5-FAB3D6E2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4996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1428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44996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61428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2B40-FD7C-4370-9A78-84A26E9D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543F-0AEA-40EB-9058-E756AC6F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33CF6-BF72-46A6-8DC9-A7975FA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85605-81D6-441D-BC57-C244652A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D30-C3D4-4FD9-9945-A15BE6D6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36374-41C0-4861-B874-C89D3149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A7BB-A582-446D-9C1A-C034AC0D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2EE6B-A809-46B4-B37A-6CCC198C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7E49-6B03-44D2-ABDB-725A41A9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5028-CE94-4FE0-A00C-C78A4140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5BEAF-D0B4-4C00-A4D9-049D95DF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289C-1E11-44CD-9E24-0D37D747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3310-784B-451C-8FD0-F25EA334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4996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61428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4996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61428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6575-A8CE-4CC9-B0AD-09962972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AA127-E0EB-4596-93CC-54474093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E2A-442F-4439-8C4F-78FE48B9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9D40-850E-4E23-8A48-6B521282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01045-4354-4836-A571-CF4A7DC9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CE52B-AE06-4192-9D86-A498D1C8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2299-B101-4B7C-8511-4CA0154A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8F111-2A98-4D42-B723-E04AFB52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B6C8-A2EB-4C02-ABAF-D29CB10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BEEEA-42AA-4258-8ECA-F043BDB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846D9-16D1-4F3A-B468-582BEC0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EC4C-77EE-4BB2-8F3D-9862D339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FE5D-DCFC-4174-899F-15356353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150-9ED2-497D-8719-C643F0D7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44996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61428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44996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61428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654BF-7689-4116-B2BC-1B27ADCD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0842A-5A71-4D7E-90DD-C6D7F7AA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B2349-2F21-47B5-A9A5-FFEDFDE2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B9C07-C095-42FF-BBBC-7B461024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FFB8D-012B-4A76-9CD0-56633775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0012E-9719-487B-AFBE-DC460E9C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751BB-0521-400F-B315-EF9CC760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86B1C-211D-477A-973C-D3ACDB9C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52116-1BC2-4AF4-8017-B8ED6CF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21F79-8B0E-482C-B99C-4FC10A0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B0F-13F3-4AAD-B8DB-BC197BE7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B5E00-C5BF-44B9-8408-36C764B4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6C0C-F345-40AE-B04E-410665BB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44996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61428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444996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61428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481E4-0DD7-4CE8-8F55-82855CCD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D7F-27B1-4996-A62E-FBE409E4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565960" y="396432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4996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614280" y="160020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444996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614280" y="3964320"/>
            <a:ext cx="206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40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41D-3775-437F-A545-C1971E5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197D-920F-466F-8D40-E1986A60788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23B2-3845-40C4-AF18-BAD4CE53FC3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04CD-03A2-45A1-BCD5-1C12CBD3A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748D-6894-4535-A3EF-4BF4A0F34D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8900-EE4B-4C2B-9322-786935F11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3581280" cy="44197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2514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700992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C2B8-E9DB-4362-9A02-40C5D4391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915080" cy="49528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57240" y="380880"/>
            <a:ext cx="518148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92468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Address Code Generation of Control Statements continued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 of a&lt;b or c&lt;d and e&lt;f(Short Circuit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:  if a&lt;b goto 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:  t1 :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:  goto 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3:  t1 :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:  ifc&lt;d goto 1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5:  t2 :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6:  goto 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7:  t2 :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:  if e&lt;f goto 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:  t3 :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:  goto 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:  t3 :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:  t4 := t2 and t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3:  t5 := t1 or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666729"/>
                </a:solidFill>
                <a:uFillTx/>
                <a:latin typeface="Arial"/>
              </a:rPr>
              <a:t>Functions and Attributes used in the translation of control Statements :-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control statements may be converted to three address code by use of the fo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ing function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label – returns a new symbolic label each time it is c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 ( ) – “generates” the code (string) passed as a parameter to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attributes are associated with the non-terminals for the code generati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– contains the generated three address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contains the label to which a jump takes place if the Boolean expression associated (if any) evaluates to “tru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contains the label to which a jump takes place if the Boolean expression (if any) associated evaluates to “fals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– contains the label / address pointing to the beginning of the code chunk for the statement “generated” (if any) by the non-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- contains the label / address pointing to the end of the code chunk for the statement “generated” (if any) by the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729"/>
                </a:solidFill>
                <a:uFillTx/>
                <a:latin typeface="Arial"/>
              </a:rPr>
              <a:t>BASIC CONCEPT INVLOVED:-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idea of converting any flow of control statement to a three address code is to simulate the “branching” of the flow of control using the goto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one by skipping to different parts of the code (label) to mimic the different flow of control bra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345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we have the following grammar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E then 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E then S1 else 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le E do 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ulation of the flow of control branching for each statement is depicted  pictorially as foll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29480" y="1953360"/>
            <a:ext cx="6875280" cy="3151440"/>
            <a:chOff x="429480" y="1953360"/>
            <a:chExt cx="6875280" cy="3151440"/>
          </a:xfrm>
        </p:grpSpPr>
        <p:sp>
          <p:nvSpPr>
            <p:cNvPr id="451" name=""/>
            <p:cNvSpPr/>
            <p:nvPr/>
          </p:nvSpPr>
          <p:spPr>
            <a:xfrm flipH="1">
              <a:off x="1303920" y="1953720"/>
              <a:ext cx="1800" cy="162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04280" y="1953720"/>
              <a:ext cx="1374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9480" y="1953720"/>
              <a:ext cx="720" cy="162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04280" y="2453760"/>
              <a:ext cx="1374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04280" y="3078720"/>
              <a:ext cx="1374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9480" y="2453760"/>
              <a:ext cx="74988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tru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fals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05400" y="3203640"/>
              <a:ext cx="62496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80840" y="2578680"/>
              <a:ext cx="87444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.c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80840" y="2078640"/>
              <a:ext cx="749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c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4679640" y="1953360"/>
              <a:ext cx="720" cy="27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79640" y="1953720"/>
              <a:ext cx="1499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79400" y="1953720"/>
              <a:ext cx="720" cy="27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79640" y="2578680"/>
              <a:ext cx="1499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79640" y="3203640"/>
              <a:ext cx="1499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679640" y="3578760"/>
              <a:ext cx="1499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79640" y="4204080"/>
              <a:ext cx="1499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79680" y="4329000"/>
              <a:ext cx="62568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55120" y="2703600"/>
              <a:ext cx="87480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.c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55120" y="2078640"/>
              <a:ext cx="749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c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55120" y="3703680"/>
              <a:ext cx="87480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.c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04840" y="2578680"/>
              <a:ext cx="7498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tru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fals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.next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79640" y="3203640"/>
              <a:ext cx="1499760" cy="374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oto S.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54560" y="2328840"/>
              <a:ext cx="3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54560" y="2078640"/>
              <a:ext cx="3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54840" y="2078640"/>
              <a:ext cx="3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4840" y="2453760"/>
              <a:ext cx="3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29960" y="1953720"/>
              <a:ext cx="8748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 E.tr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 E.fa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54840" y="4829040"/>
              <a:ext cx="999360" cy="27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f - th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04200" y="4829040"/>
              <a:ext cx="1625400" cy="27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f – then - el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2015640" y="1006560"/>
            <a:ext cx="3761640" cy="4729680"/>
            <a:chOff x="2015640" y="1006560"/>
            <a:chExt cx="3761640" cy="4729680"/>
          </a:xfrm>
        </p:grpSpPr>
        <p:sp>
          <p:nvSpPr>
            <p:cNvPr id="481" name=""/>
            <p:cNvSpPr/>
            <p:nvPr/>
          </p:nvSpPr>
          <p:spPr>
            <a:xfrm flipV="1">
              <a:off x="2955600" y="1006560"/>
              <a:ext cx="720" cy="39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55600" y="1006920"/>
              <a:ext cx="161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68040" y="1006920"/>
              <a:ext cx="720" cy="39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55600" y="2176920"/>
              <a:ext cx="161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55600" y="3347280"/>
              <a:ext cx="161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955600" y="4048920"/>
              <a:ext cx="161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93440" y="4283280"/>
              <a:ext cx="671760" cy="70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58440" y="2410920"/>
              <a:ext cx="941040" cy="70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.c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58440" y="1240920"/>
              <a:ext cx="80604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c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5640" y="1006920"/>
              <a:ext cx="939960" cy="35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.begi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tru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fals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55600" y="3347280"/>
              <a:ext cx="1613880" cy="70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oto S.be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3760" y="1192320"/>
              <a:ext cx="40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33760" y="1942920"/>
              <a:ext cx="40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36240" y="1006920"/>
              <a:ext cx="94104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 E.tr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 E.fa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4160" y="5219640"/>
              <a:ext cx="1209600" cy="51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-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729"/>
                </a:solidFill>
                <a:uFillTx/>
                <a:latin typeface="Arial"/>
              </a:rPr>
              <a:t>SEMANTIC RULES:-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6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f E then S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true := newlabe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false := S.next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1.next := S.next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code := E.code || gen(E.true ‘:’) || S1.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696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f E then S1 else S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true := newlabe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false := newlabe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1.next := S.next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2.next := S.next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code := E.code || gen(E.true ‘:’) || S1.code || gen(‘goto’ S.next) || gen(E.false ‘:’) || S2.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le E do S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begin := newlabe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true := newlabe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false := S.next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1.next := S.begin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code := gen(S.begin ‘:’) || E.code || gen(E.true ‘:’) || S1.code || gen(‘goto’ S.beg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914400" cy="2286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 rot="10800000">
            <a:off x="5943600" y="2895120"/>
            <a:ext cx="914400" cy="2286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429000" y="2362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SENTED BY :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chal Nema</a:t>
            </a:r>
            <a:br>
              <a:rPr sz="2400"/>
            </a:b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oll No:04CS3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914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Monotype Corsiva"/>
              </a:rPr>
              <a:t>THANK  YO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Arial"/>
              </a:rPr>
              <a:t>Boolean Expressions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lean expressions are composed of the Boolean operators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pplied to the elements that are Boolean variables or relational ex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 | 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 |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 | id1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d2 | true | false | (E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729"/>
                </a:solidFill>
                <a:uFillTx/>
                <a:latin typeface="Arial"/>
              </a:rPr>
              <a:t>Methods of implementing Boolean expressions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principal methods of representing the value of a Boolean expr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ethod is to encode true and false numerically and to evaluate a Boolean expression analogously to an arithmetic expression. The second principle method is by flow of control , that is , representing the value of a Boolean expression by a position reached in a program. Here we have adopted the first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6729"/>
                </a:solidFill>
                <a:uFillTx/>
                <a:latin typeface="Arial"/>
              </a:rPr>
              <a:t>Semantic Actions for producing Three Address Codes for Boolean Expressions: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E1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place := newtemp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t (E.place ‘:=’ E1.place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E2.plac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E1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place := newtemp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t (E.place ‘:=’ E1.place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E2.plac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place := newtemp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t ( E.place ‘:=’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E.plac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( E1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place := E1.pl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d1 relop i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place := new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 (‘if’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l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o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lace 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nextstat+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 (E.place ‘:=’ ‘0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 (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nextstat+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 (E.place ‘:=’ ‘1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place := new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 (E.place ‘:=’ ‘1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place = new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 (E.place ‘:=’ ‘0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place stands for the variable n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s three Address statements into an output file in the right format ,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xtst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index of the three address statement in the output sequence , and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xts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producing each three address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tem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unction creating a new temporary variable for 3 address cod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650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-Circui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nslate a Boolean expression into three address code without generating code for any of the Boolean operators and without having the code necessarily evaluate the entire expression. Thi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rt-Circu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mp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6729"/>
                </a:solidFill>
                <a:uFillTx/>
                <a:latin typeface="Arial"/>
              </a:rPr>
              <a:t>Parse Tree of a&lt;b or c&lt;d and e&lt;f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143000" y="1905120"/>
            <a:ext cx="5600880" cy="3031920"/>
            <a:chOff x="1143000" y="1905120"/>
            <a:chExt cx="5600880" cy="3031920"/>
          </a:xfrm>
        </p:grpSpPr>
        <p:cxnSp>
          <p:nvCxnSpPr>
            <p:cNvPr id="411" name="_s155733"/>
            <p:cNvCxnSpPr>
              <a:stCxn id="412" idx="0"/>
              <a:endCxn id="413" idx="2"/>
            </p:cNvCxnSpPr>
            <p:nvPr/>
          </p:nvCxnSpPr>
          <p:spPr>
            <a:xfrm flipV="1" rot="16200000">
              <a:off x="5972400" y="3891240"/>
              <a:ext cx="219600" cy="712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14" name="_s155732"/>
            <p:cNvCxnSpPr>
              <a:stCxn id="415" idx="0"/>
              <a:endCxn id="413" idx="2"/>
            </p:cNvCxnSpPr>
            <p:nvPr/>
          </p:nvCxnSpPr>
          <p:spPr>
            <a:xfrm flipV="1">
              <a:off x="5725800" y="4138200"/>
              <a:ext cx="1080" cy="219600"/>
            </a:xfrm>
            <a:prstGeom prst="bentConnector2">
              <a:avLst/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16" name="_s155731"/>
            <p:cNvCxnSpPr>
              <a:stCxn id="417" idx="0"/>
              <a:endCxn id="413" idx="2"/>
            </p:cNvCxnSpPr>
            <p:nvPr/>
          </p:nvCxnSpPr>
          <p:spPr>
            <a:xfrm flipH="1" flipV="1" rot="5400000">
              <a:off x="5259600" y="3890880"/>
              <a:ext cx="219600" cy="713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18" name="_s155730"/>
            <p:cNvCxnSpPr>
              <a:stCxn id="419" idx="0"/>
              <a:endCxn id="420" idx="2"/>
            </p:cNvCxnSpPr>
            <p:nvPr/>
          </p:nvCxnSpPr>
          <p:spPr>
            <a:xfrm flipV="1" rot="16200000">
              <a:off x="3834360" y="3890880"/>
              <a:ext cx="219600" cy="7135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21" name="_s155729"/>
            <p:cNvCxnSpPr>
              <a:stCxn id="422" idx="0"/>
              <a:endCxn id="420" idx="2"/>
            </p:cNvCxnSpPr>
            <p:nvPr/>
          </p:nvCxnSpPr>
          <p:spPr>
            <a:xfrm flipV="1">
              <a:off x="3587400" y="4138200"/>
              <a:ext cx="1080" cy="219600"/>
            </a:xfrm>
            <a:prstGeom prst="bentConnector2">
              <a:avLst/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23" name="_s155728"/>
            <p:cNvCxnSpPr>
              <a:stCxn id="424" idx="0"/>
              <a:endCxn id="420" idx="2"/>
            </p:cNvCxnSpPr>
            <p:nvPr/>
          </p:nvCxnSpPr>
          <p:spPr>
            <a:xfrm flipH="1" flipV="1" rot="5400000">
              <a:off x="3121560" y="3891240"/>
              <a:ext cx="219600" cy="7135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25" name="_s155727"/>
            <p:cNvCxnSpPr>
              <a:stCxn id="413" idx="0"/>
              <a:endCxn id="426" idx="2"/>
            </p:cNvCxnSpPr>
            <p:nvPr/>
          </p:nvCxnSpPr>
          <p:spPr>
            <a:xfrm flipV="1" rot="16200000">
              <a:off x="5081400" y="2885400"/>
              <a:ext cx="219600" cy="107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27" name="_s155726"/>
            <p:cNvCxnSpPr>
              <a:stCxn id="428" idx="0"/>
              <a:endCxn id="426" idx="2"/>
            </p:cNvCxnSpPr>
            <p:nvPr/>
          </p:nvCxnSpPr>
          <p:spPr>
            <a:xfrm flipH="1" flipV="1" rot="5400000">
              <a:off x="4368600" y="3242880"/>
              <a:ext cx="219600" cy="356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29" name="_s155725"/>
            <p:cNvCxnSpPr>
              <a:stCxn id="420" idx="0"/>
              <a:endCxn id="426" idx="2"/>
            </p:cNvCxnSpPr>
            <p:nvPr/>
          </p:nvCxnSpPr>
          <p:spPr>
            <a:xfrm flipH="1" flipV="1" rot="5400000">
              <a:off x="4012200" y="2886480"/>
              <a:ext cx="219600" cy="10692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30" name="_s155724"/>
            <p:cNvCxnSpPr>
              <a:stCxn id="431" idx="0"/>
              <a:endCxn id="432" idx="2"/>
            </p:cNvCxnSpPr>
            <p:nvPr/>
          </p:nvCxnSpPr>
          <p:spPr>
            <a:xfrm flipV="1" rot="16200000">
              <a:off x="2408400" y="3064320"/>
              <a:ext cx="219600" cy="712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33" name="_s155723"/>
            <p:cNvCxnSpPr>
              <a:stCxn id="434" idx="0"/>
              <a:endCxn id="432" idx="2"/>
            </p:cNvCxnSpPr>
            <p:nvPr/>
          </p:nvCxnSpPr>
          <p:spPr>
            <a:xfrm flipV="1">
              <a:off x="2161800" y="3311280"/>
              <a:ext cx="1080" cy="219600"/>
            </a:xfrm>
            <a:prstGeom prst="bentConnector2">
              <a:avLst/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35" name="_s155722"/>
            <p:cNvCxnSpPr>
              <a:stCxn id="436" idx="0"/>
              <a:endCxn id="432" idx="2"/>
            </p:cNvCxnSpPr>
            <p:nvPr/>
          </p:nvCxnSpPr>
          <p:spPr>
            <a:xfrm flipH="1" flipV="1" rot="5400000">
              <a:off x="1695960" y="3064320"/>
              <a:ext cx="219600" cy="7135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37" name="_s155721"/>
            <p:cNvCxnSpPr>
              <a:stCxn id="426" idx="0"/>
              <a:endCxn id="438" idx="2"/>
            </p:cNvCxnSpPr>
            <p:nvPr/>
          </p:nvCxnSpPr>
          <p:spPr>
            <a:xfrm flipV="1" rot="16200000">
              <a:off x="3922560" y="1969920"/>
              <a:ext cx="219600" cy="12477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39" name="_s155720"/>
            <p:cNvCxnSpPr>
              <a:stCxn id="440" idx="0"/>
              <a:endCxn id="438" idx="2"/>
            </p:cNvCxnSpPr>
            <p:nvPr/>
          </p:nvCxnSpPr>
          <p:spPr>
            <a:xfrm flipH="1" flipV="1" rot="5400000">
              <a:off x="3031920" y="2327040"/>
              <a:ext cx="219600" cy="5342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cxnSp>
          <p:nvCxnSpPr>
            <p:cNvPr id="441" name="_s155719"/>
            <p:cNvCxnSpPr>
              <a:stCxn id="432" idx="0"/>
              <a:endCxn id="438" idx="2"/>
            </p:cNvCxnSpPr>
            <p:nvPr/>
          </p:nvCxnSpPr>
          <p:spPr>
            <a:xfrm flipH="1" flipV="1" rot="5400000">
              <a:off x="2675160" y="1970640"/>
              <a:ext cx="219600" cy="12466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575859"/>
              </a:solidFill>
              <a:miter/>
            </a:ln>
          </p:spPr>
        </p:cxnSp>
        <p:sp>
          <p:nvSpPr>
            <p:cNvPr id="438" name="_s155718"/>
            <p:cNvSpPr/>
            <p:nvPr/>
          </p:nvSpPr>
          <p:spPr>
            <a:xfrm>
              <a:off x="3102840" y="1905120"/>
              <a:ext cx="610920" cy="55116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55717"/>
            <p:cNvSpPr/>
            <p:nvPr/>
          </p:nvSpPr>
          <p:spPr>
            <a:xfrm>
              <a:off x="1855440" y="2732040"/>
              <a:ext cx="610920" cy="551160"/>
            </a:xfrm>
            <a:prstGeom prst="rect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155716"/>
            <p:cNvSpPr/>
            <p:nvPr/>
          </p:nvSpPr>
          <p:spPr>
            <a:xfrm>
              <a:off x="2568600" y="2732040"/>
              <a:ext cx="610920" cy="551160"/>
            </a:xfrm>
            <a:prstGeom prst="rect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155715"/>
            <p:cNvSpPr/>
            <p:nvPr/>
          </p:nvSpPr>
          <p:spPr>
            <a:xfrm>
              <a:off x="4350600" y="2732040"/>
              <a:ext cx="610920" cy="551160"/>
            </a:xfrm>
            <a:prstGeom prst="rect">
              <a:avLst/>
            </a:prstGeom>
            <a:solidFill>
              <a:srgbClr val="939ea9">
                <a:alpha val="50000"/>
              </a:srgbClr>
            </a:solidFill>
            <a:ln w="57240">
              <a:solidFill>
                <a:srgbClr val="93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55714"/>
            <p:cNvSpPr/>
            <p:nvPr/>
          </p:nvSpPr>
          <p:spPr>
            <a:xfrm>
              <a:off x="1143000" y="3558600"/>
              <a:ext cx="610560" cy="5511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55713"/>
            <p:cNvSpPr/>
            <p:nvPr/>
          </p:nvSpPr>
          <p:spPr>
            <a:xfrm>
              <a:off x="1855440" y="3558600"/>
              <a:ext cx="610560" cy="550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l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&lt;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55712"/>
            <p:cNvSpPr/>
            <p:nvPr/>
          </p:nvSpPr>
          <p:spPr>
            <a:xfrm>
              <a:off x="2568240" y="3558600"/>
              <a:ext cx="610920" cy="5511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155711"/>
            <p:cNvSpPr/>
            <p:nvPr/>
          </p:nvSpPr>
          <p:spPr>
            <a:xfrm>
              <a:off x="3281040" y="3558600"/>
              <a:ext cx="610920" cy="5511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55710"/>
            <p:cNvSpPr/>
            <p:nvPr/>
          </p:nvSpPr>
          <p:spPr>
            <a:xfrm>
              <a:off x="3994200" y="3558600"/>
              <a:ext cx="610920" cy="550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155709"/>
            <p:cNvSpPr/>
            <p:nvPr/>
          </p:nvSpPr>
          <p:spPr>
            <a:xfrm>
              <a:off x="5420160" y="3558600"/>
              <a:ext cx="610560" cy="5511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55708"/>
            <p:cNvSpPr/>
            <p:nvPr/>
          </p:nvSpPr>
          <p:spPr>
            <a:xfrm>
              <a:off x="2568600" y="4385880"/>
              <a:ext cx="610560" cy="5511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155707"/>
            <p:cNvSpPr/>
            <p:nvPr/>
          </p:nvSpPr>
          <p:spPr>
            <a:xfrm>
              <a:off x="3281040" y="4385880"/>
              <a:ext cx="610920" cy="5500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l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&lt;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155706"/>
            <p:cNvSpPr/>
            <p:nvPr/>
          </p:nvSpPr>
          <p:spPr>
            <a:xfrm>
              <a:off x="3994200" y="4385880"/>
              <a:ext cx="610920" cy="5500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155705"/>
            <p:cNvSpPr/>
            <p:nvPr/>
          </p:nvSpPr>
          <p:spPr>
            <a:xfrm>
              <a:off x="4707000" y="4385880"/>
              <a:ext cx="610920" cy="5500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155704"/>
            <p:cNvSpPr/>
            <p:nvPr/>
          </p:nvSpPr>
          <p:spPr>
            <a:xfrm>
              <a:off x="5419800" y="4385880"/>
              <a:ext cx="610920" cy="5500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l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&lt;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155703"/>
            <p:cNvSpPr/>
            <p:nvPr/>
          </p:nvSpPr>
          <p:spPr>
            <a:xfrm>
              <a:off x="6132960" y="4385880"/>
              <a:ext cx="610920" cy="5511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f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6:42:18Z</dcterms:created>
  <dc:creator>Amity</dc:creator>
  <dc:description/>
  <dc:language>en-US</dc:language>
  <cp:lastModifiedBy>Jai Shri Ram</cp:lastModifiedBy>
  <dcterms:modified xsi:type="dcterms:W3CDTF">2006-11-17T09:46:50Z</dcterms:modified>
  <cp:revision>19</cp:revision>
  <dc:subject/>
  <dc:title>Slide 1</dc:title>
</cp:coreProperties>
</file>