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3F9B-086C-466D-A506-FEE6C2BE1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ollowing grammar with its translation scheme for producing 3-address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d:= E               S.Code := E.Code  || gen(id.place ‘=’ E.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 + E               E.place := newtemp( ) , E.Code =E1.Code || E2.Code || gen(E.place ‘=’ E1.place + E2.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 * E               E.place = newtemp( ) , E.Code := E1.Code || E2.Code || gen(E.place ‘=’ E1.place * E2.place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E                    E.place = newtemp( ), E.Code := E1.Code || gen (E.place ‘=’ ‘uni –‘  ‘E1.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1)                E.place = E1.place , E.Code = E1.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d                    E.place = id.place , E.Code := ‘ 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expression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 := ( y + z )  *  ( -w + v)  </a:t>
            </a:r>
            <a:fld id="{4D769C92-B994-4C42-819C-D0689958F7E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74D-B106-479C-AAA5-D77F60B3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0BD-6EF7-4A53-BBFD-99515D9E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8A7-FE97-49E2-A978-3B0B7F71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16F-467F-4651-8D58-7F64F57E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EC6-5F0A-42BB-8F8E-47A1A1C7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CC1-760D-47B9-9199-5704A35B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30D-D503-473F-84CB-E5CFB2EE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1C5-ADAD-420D-86EF-607F6179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ADF-935B-499C-8D4A-48323B32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F90-DF6E-457D-B550-8DACBCD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DCD-DA66-442F-BC3A-43158A16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49D-299C-4E15-B2AA-011A74DB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2DEC-80EF-404D-B388-64BEB0E5C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REE ADDRESS CODE GENER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| E.place := t3     E.Code := gen( t2 = -w  ,  t3 = t2 + v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* E  |  E.place = t4    E.Code := gen( t1= y + z  ,  t2 = -w  ,  t3 = t2 + v  ,  t4 = t1 * t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:=E  |  S.Code := gen(t1= y + z  ,  t2 = -w  ,  t3 = t2 + v  ,  t4 = t1 * t3  ,  x=t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.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the three address code for assignment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erminal E has 2 attrib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place, the name that will hold the value of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code, the sequence of three-address statements evaluating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tem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a sequence of distinct names t1,t2 …  in successive ca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RAY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Dimensional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[i]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X[i]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 X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   i  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set 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of A[i]  in terms of base address , low and high 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nerally low =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+ ( i – low)*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= size of each     address block in b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Base – low*w ) + i * 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Dimensional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[ i , j ]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of A[i] in term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n1 , n2 , l1 , 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1 , l2 correspond to low of the two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1 , n2 correspond to the size of each arr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+ n2 * w * ( i – l1 ) + ( j – l2 ) *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Base –( n2*l1 + l2 )*w ) + w*(n2*i + 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par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INDAM BARAL(04CS1034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following grammar with its translation scheme for producing 3-address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:= E               S.Code := E.Code  || gen(id.place ‘=’ E.pl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+ E               E.place := newtemp( ) , E.Code =E1.Code || E2.Code || gen(E.place ‘=’ E1.place + E2.plac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* E               E.place = newtemp( ) , E.Code := E1.Code || E2.Code || gen(E.place ‘=’ E1.place * E2.plac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E                    E.place = newtemp( ), E.Code := E1.Code || gen (E.place ‘=’ ‘uni –‘‘E1.pl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1)                E.place = E1.place , E.Code = E1.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d                    E.place = id.place , E.Code := ‘ 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expression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 := ( y + z )  *  ( -w + 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otated parse tree for the above expression will b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-address code statements for the above expression will b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= y +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2 = -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3 = t2 +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4 = t1 * t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t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ax directed translation for the above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  |  E.place :=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  |  E.place :=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+ E  |  E.place  := t1  E.Code := gen( t1 = y + z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|  E.place := t1    E.Code := gen( t1 = y + z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  |  E.place  :=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E  | E.place := t2     E.Code := gen( t2 = -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  | E.place :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+ E  | E.place := t3    E.Code :=  gen( t2 = -w  ,  t3 = t2 +v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20:22:54Z</dcterms:created>
  <dc:creator>arindam baral</dc:creator>
  <dc:description/>
  <dc:language>en-US</dc:language>
  <cp:lastModifiedBy>arindam baral</cp:lastModifiedBy>
  <dcterms:modified xsi:type="dcterms:W3CDTF">2006-11-08T20:37:46Z</dcterms:modified>
  <cp:revision>2</cp:revision>
  <dc:subject/>
  <dc:title> THREE ADDRESS CODE GENERATION </dc:title>
</cp:coreProperties>
</file>