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EFE-EF43-4717-8333-7A7D6D8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7AD-7C6D-4604-A1CE-0FD9F093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1B7-1CF5-42C6-99DE-B6314167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237-B497-46DE-B5DC-241E9B64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388-192D-47B7-BDE3-FE729F4C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790-9D9A-4A98-A0FF-D1765BC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DF11-4915-49A0-88C5-5648FD6B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69C-A633-417D-BB65-279F043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FDB-EFA2-4D0B-AA90-42AD68E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E6D-AB0E-4194-95A8-38E41FDB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F58-5D47-42D4-B2B7-5EC9A9B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39D-D694-4D38-B2C6-D30B90FB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1981-082C-4B19-8901-9FE5F78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D00F-1187-4D64-A8EB-054CE3F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F947-BF67-42DC-8C2A-C5742B5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C799-EF92-4EBF-8E75-30295E60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B9DB-75E2-4959-B03D-C9323479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82D-FD4A-4DE9-B797-13D050B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B6F-5B21-4D84-B1CF-5B0C4489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F09-011C-4305-A82E-539FC680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293-8D45-4155-B365-8D01FC43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981-A6CE-49D1-B19D-267D4CB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131-2527-4D89-A704-0B319DFD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ED4-8D14-4E85-B0D4-D4A4365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A5F-E81A-4475-AD82-E2D871D28B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478A-7E60-41DF-8EA9-27862664E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TARGET CODE GENER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c block is a sequence of consecutive statements in which flow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enters at the beginning and exit at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formation on Basic Bloc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ructure preserving transformat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Common  sub-expression elimination .  Consider the basic bloc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= b +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= a - 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= b +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a - 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s equivalent block will 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= b +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= a - 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= b +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dead code elimination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ose x = y op 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x is never used subsequently .therefore x is dead .hence we can remo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express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renaming temporary variables. minimize the no. of temporary variables b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naming them.for example block1 and block2 are equival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1: t1 = y + 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= y + t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ock2: t2 = y + z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= y + t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renaming temporary vari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ize the no. of temporary variables b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ming them.for example block1 and block2 are equival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ck1: t1 = y + 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= y + t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ck2: t2 = y + z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= y + t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interchange of independant statements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pendant statements within a block can be interchanged without affec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lue of the block. it helps in checking the equivalence of 2 bloc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1 = b 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= x +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2 = b 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1 = x +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equival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op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op is a collection of nodes in a flow graph such th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nodes in the collection are strongly connected; that is, from  any node in the loop to any other, there is a path of length one or more, wholly within the loo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ollection of nodes has a unique entry, that is, a node in th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op such that the only way to reach a node of the loop from a node outsi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oop is to first go through the en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oop that contains no other loops is called an   inner loo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hish Kum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4CS30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7:02:43Z</dcterms:created>
  <dc:creator>ashish</dc:creator>
  <dc:description/>
  <dc:language>en-US</dc:language>
  <cp:lastModifiedBy>ashish</cp:lastModifiedBy>
  <dcterms:modified xsi:type="dcterms:W3CDTF">2006-11-21T07:10:36Z</dcterms:modified>
  <cp:revision>1</cp:revision>
  <dc:subject/>
  <dc:title>TARGET CODE GEN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