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9D3C3-F711-4A06-8467-8CF7704E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98275-DA38-4D6E-AEC3-6A5B8BCC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068CB-AA48-47D7-89DC-E6FD2EA9D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75112-87C9-4AB9-ACC4-6B13A3248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4FD9-FC24-4F2F-B2E1-88D12395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1404-1E2B-45B1-A90D-4DC1464F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AFEF-91F4-460E-A883-8C4268A5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8068-EADB-44E3-B002-20B0F4CC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20D2-2C7D-4085-8E4E-D932A1D1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3B8C-AA81-4B53-B03D-D4C8D70F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8439-67AF-4B5E-BAB4-84465998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1441A-4B14-48D5-B304-796BDA20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C93C-60A8-4EAE-85E4-88823B53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6E7A-8A30-44C0-94E7-FA2167D9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2A74-8B45-4695-9E44-D2D154C3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79AE-2485-4240-90F9-B8787FDC3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FB9E-22D7-42D0-8006-0574D2305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169A3-A1B5-4AF7-9D27-1320BE63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B4E00-3D6E-4BCE-8E26-CD397414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CAE63-E005-4CD4-B95D-4DA53762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E70F8-2E1D-4A65-B83E-CB6C77D6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1431F-3BC5-4F39-9FD0-BE2996AF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60402-1BD5-4EC5-A73E-8EFC5C20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ED76F-F291-4940-9568-CC5B7FC5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18A0-BDA3-4EEA-A0C0-0AD0927CF9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0CFD-A825-4ED7-AFD2-11FA2758F5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YNTAX ANALYSIS &amp; ERROR RECOVERY</a:t>
            </a:r>
            <a:br>
              <a:rPr sz="6000"/>
            </a:br>
            <a:br>
              <a:rPr sz="6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y: Sarthak Swaroo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4. Global Corr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would like compiler to make as few changes as possible in processing an incorrect input str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are algorithms for choosing a minimal  amount of changes to obtain a globally least-cost  correction. Suppose we have a line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IS IS A OCMPERIL SCA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correct this, there is an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ttracto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which check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how different tokens are from the initial input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checks the closest attractor to the incorrect token i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s is more of 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obabilistic type of error correc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Unfortunately, these methods are in general too costly to implement in terms of space and tim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YNTAX ANALY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main features of syntax analysis, which is done by parser, are as follow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ecks the Gramm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se Tree Prod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utput Err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ypes of Err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are mainly four types of error. They are as follow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xical Error : Such as misspelling an identifier, keyword or operato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yntactic Error : Such as an arithmetic expression with unbalanced parenthe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mantic Error : Such as operator applied to an incompatible operan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Error :  Such as infinitely recursive cal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9907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ERROR HANDLING TECHNIQUES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1. Panic Mo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case of an error lik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=b + c      // no semi-col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=e + f 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mpiler will discard all subsequent tokens till a semi-colon is encountered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s is a crude method but often turns out to be the best metho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s method often skips a considerable amount of input without checking it for additional errors, it has an advantage of simplic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situations where multiple errors in the same statements are rare, this method may be quite adequa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2. Phrase Level Recove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 discovering an error, a parser may perform  local correction on the remaining input; that is, it may replace a prefix of the remaining input by some string that allows the parser to continu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example, in case of an error like the one above, it will report the error, generate the “;” and continu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3. Error Pro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we have an idea of common errors that might occur, we can include the errors in the grammar at hand. For example if we have a production rule lik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E | -E | *E | /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n,  a=+b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=-b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=*b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=/b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e, the last two are error situat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w, we change the grammar a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E | -E | *A | /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nce, once it encounters *A, it sends an error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ssage asking the user if he is sure he wa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use a unary “*”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12:27:27Z</dcterms:created>
  <dc:creator>Sarthak Swaroop</dc:creator>
  <dc:description/>
  <dc:language>en-US</dc:language>
  <cp:lastModifiedBy>Sarthak Swaroop</cp:lastModifiedBy>
  <dcterms:modified xsi:type="dcterms:W3CDTF">2006-09-16T06:53:00Z</dcterms:modified>
  <cp:revision>16</cp:revision>
  <dc:subject/>
  <dc:title>SYNTAX ANALYSIS &amp; ERROR RECOVERY</dc:title>
</cp:coreProperties>
</file>