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1B0C-C91E-4F3F-AD73-22CE4C15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695C-8CCA-4483-BC1F-B9120379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0E7-9B8E-449A-AA42-BC2BD082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BB12-4908-4D3E-87B3-17CF5C61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5DA2-7011-4FD2-819C-3051E448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0526-88D8-46C6-A951-C55F5851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A2BB-9D83-4265-BC08-CA6E2F30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6E95-1FB7-4E2B-BD59-8263453B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56CC-FB46-42CF-A00B-FA8F6A6A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493C-F2D3-4563-AFDA-0D4DF7C7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1893-4CC6-46E3-A5F8-569AA6FD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7BC7-72AD-4C14-9B50-209693F2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B905-45BA-4B17-88B7-8CC0916E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032E-DDD8-4E78-B461-0838E53E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D96B-5C20-4BFB-B29F-292C473C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A17B-88AA-4B87-A6A5-EB4A79C9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F0CC-1BAF-49FA-9430-A7AB72BF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A579-FF5B-4FCD-847B-F14479B1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7AE9-A184-4A2F-B3F3-15F40C19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0241-C219-4938-B432-3A13C6B2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6F00-3B3B-4AD6-9A35-51C6A04F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B102-F85F-4FDC-8C7E-69DF5992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71FC-C52A-4782-B290-26AB5108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BBE4-A47C-4C0B-A16D-14090C73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4F96-831C-4BB5-8C21-C5473BC456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D4F7-2943-4940-B3A2-E14CDFF75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LR PARSING TECHNIQU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518148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Submitted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Abhijeet Mohapat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04CS101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Example: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mar 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’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A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b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et of items generated: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0 = {[S’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.S], [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.aABe]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1 = {S’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.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2 = {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.ABe, A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.Abc, A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.b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3 = {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A.Be, A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.bc, B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.d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4 = {A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.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5 = {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AB.e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6 = {A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.c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7 = {B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.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8 = {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ABe.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9 = {A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c.}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c94"/>
                </a:solidFill>
                <a:latin typeface="Times New Roman"/>
              </a:rPr>
              <a:t>The table for parsing action and goto function for the given grammar is:-</a:t>
            </a: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4920" y="1660680"/>
            <a:ext cx="8458200" cy="3584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62120" y="5181480"/>
            <a:ext cx="632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rj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means reduce by production numbered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cc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means 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means shift and stack state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. blank means erro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OTO GRAP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ition Rul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ere is a transition from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-&gt;α . Xβ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-&gt; αX . 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, the transition in the GOTO Graph is labele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 there is a trans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-&gt; α  . B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t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B-&gt; .γ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, the transition is label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ε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since we tak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closure of all items, these productions lie in the same item as that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-&gt;α . Bβ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-&gt; αB . 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RULES FOR FILLING THE SLR PARSE TABL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ules for filling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ries in the table 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If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 A-&gt; α .a β 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in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got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 Ii , a ) =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I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set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i ,a] to “shift j “.Her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ust be a term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If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A-&gt; α .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in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set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i , a ] to “reduce A -&gt; α “ for all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FOLLOW (A); here  A may not be in S’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If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 S’-&gt; S.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in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set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[I, $] to accep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ny conflicting actions are generated by the given rules, then we say the grammar is not in SLR or LR (0) and we fail to produce a pars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then fill the  goto ent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oto transitions for the  state i are  constructed for all the non-terminals A using the Ru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goto( Ii, A 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I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, th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to [i , A ] = 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-32400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GOTO GRAPH FOR GRAMMAR G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934320" cy="60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mple LR pars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LR pars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n LR parser for which the parsing tables are generated as for an LR(0) parser except that it only performs a reduction with a grammar rul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f the next symbol on the input stream is in the follow set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CONSTRUCTION OF SLR – PARSING TABLE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rammar G with production ru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ENTRAL ID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onstruct from the input grammar, a DFA to recognize viable prefixes. This is done by grouping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tem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o sets which can be visualized as subset construction from the states of a NFA recognizing the viable prefix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7696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tem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LR (0) ite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simply, an item of a grammar G is a production of G with a dot ‘.’ at some position of the right side. For example, the production A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XYZ yields four item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.XY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X.Y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XY.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XY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duction rule of the form A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ields only one item A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. . Intuitively, an item shows how much of a production we have seen till the current point in the parsing proced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gmented Grammar G’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equals G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{S’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} where S is the start state of G. The start state of G’ = S’. This is done to signal to the parser when the parsing should stop to announce acceptance of inpu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osure Opera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f I[] is a set of items for a grammar G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ure(I) = I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{B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.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| (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B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losure(I)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(B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rammar G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76960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oto Operation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 set of items I, and grammar symbol X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to(I, X) = { Closure (all items containing 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.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such that 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X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in I}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set of items that are valid for the viable prefi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,  where I is valid for some viable prefi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Kernel and Non-Kernel item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rnel items include the set of items that do not have the dot at leftmost end, along with S’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.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kernel items are the items which have the dot at leftmost en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id items (grammar G)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 C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 i, j, 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{closure ({[S’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.S]})}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= 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(i = 0; i &lt; size(C); i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(j = 0; G.symbol[j] != 0; j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(size(goto(C[i],X)) &gt; 0 &amp;&amp; !iselement(goto(C[i],X),C)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 C = union(C, goto(C[i],X)); n++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 while (n !=  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   // size of items in grammar 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9:46:36Z</dcterms:created>
  <dc:creator>Abhijeet</dc:creator>
  <dc:description/>
  <dc:language>en-US</dc:language>
  <cp:lastModifiedBy>Abhijeet</cp:lastModifiedBy>
  <dcterms:modified xsi:type="dcterms:W3CDTF">2006-09-15T20:19:08Z</dcterms:modified>
  <cp:revision>4</cp:revision>
  <dc:subject/>
  <dc:title>SLR PARSING TECHNIQUES</dc:title>
</cp:coreProperties>
</file>