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AD0E-6634-4A40-B32B-8AF79B8E3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E5D6-ACC4-4F22-ABDA-7F5B210B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F00-407F-4B35-AFC1-3DA27BC4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4FA-3D89-4051-9BD5-B07925DA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A55-C35D-4A4A-8610-7D3EF1CF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F39-2304-4BD1-BF9A-D61F6C88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77BB-8B10-4F51-9D22-D0056592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6AD1-AFA2-4724-8926-F0C3904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03A2-FDE1-4421-A6FB-9E8C0E81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803-F70E-4515-966C-7F207E7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CCA-C046-4628-821E-BB4A4603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7AE-B83B-49A1-AAAC-90B58A2A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72C5-B4EC-4B46-8F41-34FEE58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86C-D886-4D54-BA43-A6091EA3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E48B-0E1D-4CF8-9D28-A21A2FB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1CC-322D-4558-9429-41F75841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71B9-836D-45EF-A28C-43ED113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4A18-AD37-4506-AF5D-566CEDFF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D3E6-8DF9-4B81-97F1-F1734FEF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238-3E7E-4094-8FBB-17BD7DA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79D-803E-4CEB-8D6B-73C8F6A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3E7-AF5B-497B-B103-BF9FB23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766-B49B-44CC-B103-D16AD4AB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D9E-73FD-48D7-9421-BA62F9E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81F-2155-4119-9208-1C881C0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3E0-6720-4082-9DE4-902C86D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5818-99CF-4917-B697-CDD7C948B1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9A8-1898-47F3-956B-84A2893B0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647440" y="4221000"/>
            <a:ext cx="64962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a50021"/>
                </a:solidFill>
                <a:latin typeface="Brush Script MT"/>
              </a:rPr>
              <a:t>TARGET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a50021"/>
                </a:solidFill>
                <a:latin typeface="Brush Script MT"/>
              </a:rPr>
              <a:t>-Next Us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436572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419640" y="1341360"/>
            <a:ext cx="302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jat Seth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4CS302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50021"/>
                </a:solidFill>
                <a:latin typeface="Times New Roman"/>
              </a:rPr>
              <a:t>Topics to be covered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240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Us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utation using Backward S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 and Address Desc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treg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C90-BBDC-4114-8784-35B7DEFE8326}" type="slidenum">
              <a:t>2</a:t>
            </a:fld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Next Usag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ique is employed in dead code optimization. The instructions with no 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xt use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moved from th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ame in a register is no longer needed, then the register can be assigned to some ot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llect next-use information about names in a basic block. Note that we consider only the variables in the sam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E57-5E97-4A87-ABC4-1934C68B1D20}" type="slidenum">
              <a:t>3</a:t>
            </a:fld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Backward Scan: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_s1042"/>
          <p:cNvSpPr/>
          <p:nvPr/>
        </p:nvSpPr>
        <p:spPr>
          <a:xfrm>
            <a:off x="2484360" y="5734080"/>
            <a:ext cx="4897440" cy="792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NOTE </a:t>
            </a: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: The orders of Step 2 and Step 3 should n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be interchanged because </a:t>
            </a:r>
            <a:r>
              <a:rPr b="0" i="1" lang="en-GB" sz="1600" spc="-1" strike="noStrike">
                <a:solidFill>
                  <a:srgbClr val="660033"/>
                </a:solidFill>
                <a:latin typeface="Arial"/>
              </a:rPr>
              <a:t>x</a:t>
            </a: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 may be </a:t>
            </a:r>
            <a:r>
              <a:rPr b="0" i="1" lang="en-GB" sz="1600" spc="-1" strike="noStrike">
                <a:solidFill>
                  <a:srgbClr val="660033"/>
                </a:solidFill>
                <a:latin typeface="Arial"/>
              </a:rPr>
              <a:t>y</a:t>
            </a: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 or </a:t>
            </a:r>
            <a:r>
              <a:rPr b="0" i="1" lang="en-GB" sz="1600" spc="-1" strike="noStrike">
                <a:solidFill>
                  <a:srgbClr val="660033"/>
                </a:solidFill>
                <a:latin typeface="Arial"/>
              </a:rPr>
              <a:t>z</a:t>
            </a: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Arial"/>
              </a:rPr>
              <a:t>e.g.:-  </a:t>
            </a:r>
            <a:r>
              <a:rPr b="0" i="1" lang="en-GB" sz="1600" spc="-1" strike="noStrike">
                <a:solidFill>
                  <a:srgbClr val="660033"/>
                </a:solidFill>
                <a:latin typeface="Arial"/>
              </a:rPr>
              <a:t>x := 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700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tatement i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: x := y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op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2276640"/>
            <a:ext cx="482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4b60"/>
              </a:gs>
              <a:gs pos="50000">
                <a:srgbClr val="95a3d1"/>
              </a:gs>
              <a:gs pos="100000">
                <a:srgbClr val="444b60"/>
              </a:gs>
            </a:gsLst>
            <a:lin ang="135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STEP 1: Attach to statement </a:t>
            </a:r>
            <a:r>
              <a:rPr b="1" i="1" lang="en-GB" sz="1800" spc="-1" strike="noStrike">
                <a:solidFill>
                  <a:srgbClr val="660033"/>
                </a:solidFill>
                <a:latin typeface="Arial"/>
              </a:rPr>
              <a:t>i, 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information of next use of </a:t>
            </a:r>
            <a:r>
              <a:rPr b="0" i="1" lang="en-GB" sz="1800" spc="-1" strike="noStrike">
                <a:solidFill>
                  <a:srgbClr val="660033"/>
                </a:solidFill>
                <a:latin typeface="Arial"/>
              </a:rPr>
              <a:t>x, y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 and </a:t>
            </a:r>
            <a:r>
              <a:rPr b="0" i="1" lang="en-GB" sz="1800" spc="-1" strike="noStrike">
                <a:solidFill>
                  <a:srgbClr val="660033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3357720"/>
            <a:ext cx="4824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EP 2: In symbol table, se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o “no next us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“not live”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4581360"/>
            <a:ext cx="482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20043"/>
              </a:gs>
              <a:gs pos="50000">
                <a:srgbClr val="d60093"/>
              </a:gs>
              <a:gs pos="100000">
                <a:srgbClr val="620043"/>
              </a:gs>
            </a:gsLst>
            <a:lin ang="135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EP 3: In symbol table set the next us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 and z to I and also to “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A31-5058-4D16-8F6D-D69BB56FF79F}" type="slidenum">
              <a:t>4</a:t>
            </a:fld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Register &amp; Address Descriptor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02120" y="2046960"/>
            <a:ext cx="5244480" cy="13237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>
                  <a:alpha val="2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keeps track of what is in each register. It is consulted whenever a new register is needed. E.g.: R0 contains t, y, 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280040"/>
            <a:ext cx="7128000" cy="1684440"/>
          </a:xfrm>
          <a:prstGeom prst="ellipse">
            <a:avLst/>
          </a:prstGeom>
          <a:solidFill>
            <a:srgbClr val="95a3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t keeps tract of the location(s) where the current value of the name can be found at the runtime. The location might be register, stack or memory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C4A-CBDB-4604-9A12-2D5CF363B7BB}" type="slidenum">
              <a:t>5</a:t>
            </a:fld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de Generation Algorith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12920"/>
            <a:ext cx="2414520" cy="43056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780920"/>
            <a:ext cx="2487600" cy="43056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31840"/>
            <a:ext cx="2454480" cy="430560"/>
          </a:xfrm>
          <a:prstGeom prst="flowChartAlternateProcess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4373280"/>
            <a:ext cx="2414520" cy="430560"/>
          </a:xfrm>
          <a:prstGeom prst="flowChartAlternateProcess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1773360"/>
            <a:ext cx="61927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64000" y="181728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space L to store value of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getreg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Y, see whether it is stored in 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yes, perform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 Z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se perform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ov Y,L; op Z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e :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p Z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pdate address descriptor of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o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ny other register, remo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current values of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ave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xt use then free the regi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2924280"/>
            <a:ext cx="61927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4365720"/>
            <a:ext cx="61927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805360"/>
            <a:ext cx="619308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B5C-93D1-401A-B152-0060AD6426EC}" type="slidenum">
              <a:t>6</a:t>
            </a:fld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Function</a:t>
            </a:r>
            <a:r>
              <a:rPr b="0" i="1" lang="en-US" sz="4200" spc="-1" strike="noStrike">
                <a:solidFill>
                  <a:srgbClr val="660033"/>
                </a:solidFill>
                <a:latin typeface="Times New Roman"/>
              </a:rPr>
              <a:t> getreg();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If the name y is in a register , that holds the value of  no other names (in other words no   other names point to the same register as y does), and y is not live and has no next use  after the execution of y =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, then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urn 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pdate the address descriptor of y , so that y is no longer in 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ailing (1), return an empty register for L if it ex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Failing (2), if x has a next use in the block, or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a register then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an occupied register 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V(R,M) if value of R is not in proper M. If R holds value of many variables, generate a MOV for each of the variab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Failing (3), select the memory location of x as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95B-AC29-4C66-895E-CE1DD7175AF5}" type="slidenum">
              <a:t>7</a:t>
            </a:fld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33"/>
                </a:solidFill>
                <a:latin typeface="Times New Roman"/>
              </a:rPr>
              <a:t>Example: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55640" y="2205000"/>
          <a:ext cx="7772400" cy="4468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ode Gene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Reg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escri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Descri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a-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 a,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 b,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0 -&gt;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-&gt;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= a-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 a, 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 c, 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0 -&gt;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-&gt; 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-&gt;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-&gt; 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 t+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R1,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0 -&gt;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-&gt; 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-&gt; 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-&gt;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 v+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R1,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 R0,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0 -&gt;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 -&gt; 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-&gt; R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-&gt; 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059280" y="162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d=(a-b) + (a-c) + (a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F05-16BC-4B50-B550-45CD422B4DAD}" type="slidenum">
              <a:t>8</a:t>
            </a:fld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a50021"/>
                </a:solidFill>
                <a:uFillTx/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FDD-5318-4766-A2BB-7E5DFB48AB7B}" type="slidenum">
              <a:t>9</a:t>
            </a:fld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1:44:40Z</dcterms:created>
  <dc:creator>FSC</dc:creator>
  <dc:description/>
  <dc:language>en-US</dc:language>
  <cp:lastModifiedBy>Rajat</cp:lastModifiedBy>
  <dcterms:modified xsi:type="dcterms:W3CDTF">2006-11-20T14:46:07Z</dcterms:modified>
  <cp:revision>123</cp:revision>
  <dc:subject/>
  <dc:title>Slide 1</dc:title>
</cp:coreProperties>
</file>