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9E1-B469-46F1-BADD-4ED43695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C7D-C477-4549-A980-B4EE0432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BA8-8B2B-422D-9691-98BA4A8F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CE2-5B95-45A2-99A3-B91112B7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157-7514-41EF-B332-5E6610DD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D2F-A1BF-46B1-B9DB-BF889C80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8DA-C131-44B5-8A72-225DC68E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2E7-2B41-4C72-A392-F3A0B93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0A4-2467-4559-9D35-D51D34E2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EFC-F1A8-423C-88CD-F0D02F25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D2B-D701-45C9-A806-1AF0F744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B19-F121-44AF-9497-7D3D7D9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C60-B151-48A5-AB46-862835BC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3051080" y="-13899600"/>
            <a:ext cx="35246160" cy="346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: 9/11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:    NEERAJ  KUMAR (04CS30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ree Address Code Generation – Backp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in generating three address codes in a single pass is that we may not know the labels that control must go to at the time jump statements are generated. So to get around this problem a series of branching statements with the targets of the jumps temporarily left unspecified is generated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at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utting the address instead of labels when the proper label is determ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ing Algorithms perform three types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list(i) – creates a new list containing only i, an index into the array of quadruples and returns pointer to the list it has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(i,j) – concatenates the lists pointed to by i and j ,and returns a pointer to the concatenated li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(p,i) – inserts i as the target label for each of the statements on the list pointed to by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lation scheme is as follows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E ---&gt; E1 or M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(E1.falselist, M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truelist = merge(E1.truelist, E2.true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falselist = E2.false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E ---&gt; E1 and M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(E1.truelist, M.qua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truelist = E2.true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falselist = merge(E1.falselist, E2.false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E ----&gt; no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truelist  = E1.false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falselist = E1.true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E -----&gt; (E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truelist = E1.true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falselist = E1.false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E -----&gt; id1 relop i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truelist = makelist(next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falselist = makelist(nextquad +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(if id1.place relop id2.place goto __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(goto 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E -----&gt;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truelist = makelist(nextqua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(goto 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E -----&gt;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falselist = makelist(nextqua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(goto 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 M -----&gt; epsi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Quad = nextqu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gramming languages have a common set of statements that define the control flow of a program written in that language.These statements a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Assignment : A single statement assigning some expression to a variable. After executing this statement, the control flows to the immmediate next statement in th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if&lt;condition&gt;then&lt;then-part&gt;else&lt;else-part&gt; : Control flows to either the then-part or the else-part  depending on whether the condition is true or 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while&lt;condition&gt;do &lt;loop&gt; : Control remains within the loop until the condition becomes 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&lt;block of statements&gt; : a group of statements put within a begin ... end block mar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mmar for these statements is given b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B then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B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le B do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 L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/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id the generation of the code, two new marker nonterminals M and N are 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ified grammar becom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B then 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B then M S N else 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le M B do 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 L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/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 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epsilo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epsilo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is a Boolean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are def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nextlist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quadruples with jumps to the quadruple succeeding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.nextlist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, where L is a group of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nterminal N iss ued  as it permits the generation of a jump after the 'then' in if-then-else.  The atribute N.nextlist holds the quadruple number for this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B then M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 (B.truelist,M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nextlist = mergelist(B.falselist,S1.next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B then M1S1N else M2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 (B.truelist,M1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 (B.falselist,M2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nextlist = mergelist(S1 .nextlist,mergelist(N.nextlist,S2.nextlis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le M1B do M2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(S1.nextlist,M1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(B.truelist,M2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nextlist = B.false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('goto' M1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 L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nextlist = L.nex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nextlist = &lt;n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1 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atch(L1.nextlist,M.qu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nextlist = S.nex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nextlist = S.nex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trans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a &gt; b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y +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a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y -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f a&gt;b go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go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t1 = y +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x  =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. t2 = a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. a =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. go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. t3 = y -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9. x = 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5:07:46Z</dcterms:created>
  <dc:creator>swlab</dc:creator>
  <dc:description/>
  <dc:language>en-US</dc:language>
  <cp:lastModifiedBy>swlab</cp:lastModifiedBy>
  <dcterms:modified xsi:type="dcterms:W3CDTF">2006-11-15T05:09:25Z</dcterms:modified>
  <cp:revision>1</cp:revision>
  <dc:subject/>
  <dc:title>Slide 1</dc:title>
</cp:coreProperties>
</file>