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6A9-C5DE-4636-95C5-7BAF5912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582-44CE-487A-8394-B345886E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5DF-1ED8-44FB-BF19-23BC9F8E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AAE-9F6D-4B84-8B96-4A49C453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1F4-65B3-4F4D-B5D0-AE81C826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2B1-F3DF-44CF-9ED9-93AE0E7B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48A-6564-4FB4-AAAD-D0083DD4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E09-57B3-44A2-983D-40CD9E3D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632-67D4-4F69-A1D3-58E6F85A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0A6-6BA8-4F28-8E67-8790621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5DB-FA50-48C2-A5CF-5F852682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2DA-BE76-49D8-B191-C71A083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8545-C72E-4F48-8878-CD4370D0D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144.16.192.60/~niloy/COURSE/Autumn2006/Compiler/notes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ree Address Code Generation - Control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be by Rahul Panda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4CS3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above rules and assignment statements we get the 3 address code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1: if a &lt; b goto 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to L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: if c &lt; d goto 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to 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3: t1 = y +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4: t2 = y –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ex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n control flow translation of boolean exp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&lt; b or c &lt; d and e &lt;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irst made a syntax tree from the given expression using the syntax directed definitions we learned in the last l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s are: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-&gt; E1 or E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-&gt; E1 and E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-&gt; not E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-&gt; (E1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-&gt; id1 relop id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-&gt; tru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-&gt; 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 tr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9051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70360" y="19414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8000" y="2819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36232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971440" y="2362320"/>
            <a:ext cx="1066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9600" y="28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5000" y="281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480" y="304812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733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819160" y="31240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31240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95320" y="32004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32767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200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2360" y="37339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30240" y="36939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20240" y="3541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5200" y="36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760" y="3618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720" y="3618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580920" y="38862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3962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172200" y="3886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38862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5320" y="4303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06400" y="4456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44120" y="42274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06240" y="4303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16440" y="4456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53800" y="43797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62480" y="430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80920" y="3809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12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0920" y="476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819160" y="40384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960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28440" y="4456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09520" y="5141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0" y="491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58160" y="483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95520" y="4989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05360" y="498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in a depth first manner and following the semantic rules we 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&lt; b goto L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L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1: if c &lt; d goto 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L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2: if e &lt; f goto L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 L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a &lt; b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&lt; d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y +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y -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the productions used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-&gt; if E then S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E.true = newlabe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false = S.next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.next = S.next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code= E.code|| gen(E.true’:’)||S1.code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-&gt; if E then S1 else 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E.true = newlabe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false = newlab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.next = S.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.next = S.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code = E.code||gen(E.true’:’)||S1.code||gen(‘goto’S.next)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(E.false’:’)||S2.cod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-&gt; while E do 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S.begin = newlab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true = newlab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false = S.n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1.next = S.beg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code = gen(S.begin’:’)||E.code||gen(E.true’:’)||S1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gen(‘goto”S.begin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4:47:48Z</dcterms:created>
  <dc:creator>rahul</dc:creator>
  <dc:description/>
  <dc:language>en-US</dc:language>
  <cp:lastModifiedBy>rahul</cp:lastModifiedBy>
  <dcterms:modified xsi:type="dcterms:W3CDTF">2006-11-16T16:27:12Z</dcterms:modified>
  <cp:revision>6</cp:revision>
  <dc:subject/>
  <dc:title>Three Address Code Generation - Control Statements</dc:title>
</cp:coreProperties>
</file>