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34B6-09C5-44C3-8E82-486B786EF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809-7C9E-45EE-936E-45FEED2F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520-1CE6-48FC-A02E-85B017DC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23E-FA44-4EE1-9BC4-645B290C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F85-CB13-42C5-9DDE-CFE6803E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EB21-2A8C-4663-9617-29B678F6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C35-A91E-4433-9075-9ECA32E6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149-12CB-495E-9DDF-79117079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A8B3-F0C4-4098-A28A-3DF4DD7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5E07-A9C4-4ACD-A680-9E072688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C0CE-C3D7-471A-9C0D-BA52411D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3F40-7537-4B04-94B8-528AA48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5A6-B945-456B-8F21-985A2D3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883-05E7-43DC-9924-2126225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5901-0FFB-46E4-87A9-B4ACC1E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FA61-B2F4-41D5-92D4-8DB04A2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4CCE-3A05-42EF-B0BA-51344B24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738A-1769-4854-90B6-D4E532BB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34500-980E-436C-BB2F-CE63FB25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4D86B-14EC-4D92-A2B6-B43DA8BF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48EAC-87AE-4F66-956D-6087AA82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8A843-09E0-446C-A015-686D92C0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9D7D2-A916-40C8-9E13-A2785959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B65-E58C-4079-82DB-2C19641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02647-7839-4B87-9B81-ADF6980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2636B-160C-4178-87E7-B29E9FBD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8C832-CCA3-44B1-B89D-7FD66A1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7DAA1-C4EC-449A-9F7A-FA5320C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D75B5-A472-436B-A020-A11FF156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99C3D-7E9A-4D05-903F-208F487D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853E7-8A97-4818-AB7F-48180E8B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687C-C316-4B69-96FE-655CE72D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63BB-BFDB-4124-8C98-05D8EC97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376E-6008-48A6-B5D2-E37F544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1AC-AECE-446C-8A3A-00E59CE9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695C-B3F2-4632-878F-641D7FCE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B68F-9C09-4335-AB1A-D20FE784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7F8F-725C-4060-A5A3-BEA6803A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8F8C-E7FA-418E-86CB-9A02F684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484D-61D4-40BC-BA43-4417A7E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26AF-3B42-4F35-9356-FF58426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954B-0D8A-4877-AB47-3968DA2A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5115-5F96-4709-A8B9-3611F78B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29580-036C-4756-90F6-3C043A24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C01-2251-4A0E-BA15-3131F0F3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E19-CDE1-47A1-9593-F3D3E32C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BE0-61EF-4AFB-AA29-8D5CB39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939-8BA1-4E4D-B1A2-6C890B9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6DF-9CF4-446B-AE4C-83E0E5E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0CF1-3425-45F9-9246-6E7C73A73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D660-2215-454B-9626-BED33E808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406-9FAE-4AD1-8137-3854FAB79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5B9-4202-4B6F-9E14-46D7265E9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web.iitkgp.ernet.in/~niloy/COURSE/Autumn2006/Compiler/main.html#Lectur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LL(1) Parser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762120"/>
          <a:ext cx="8229600" cy="517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put Buff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i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F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i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cep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we can easily construct an LL parse with 1 lookahead. Since one look ahead is involved, we also call it an LL(1) par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grammars which may requite LL(k) pars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.g. look at next example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ramm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EtSS’ |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’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| ë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 that this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n else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114800" y="2208240"/>
          <a:ext cx="4571640" cy="2814120"/>
        </p:xfrm>
        <a:graphic>
          <a:graphicData uri="http://schemas.openxmlformats.org/drawingml/2006/table">
            <a:tbl>
              <a:tblPr/>
              <a:tblGrid>
                <a:gridCol w="1218600"/>
                <a:gridCol w="1600200"/>
                <a:gridCol w="1752840"/>
              </a:tblGrid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,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,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,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,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se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981080"/>
          <a:ext cx="8229600" cy="38890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622160"/>
                <a:gridCol w="728640"/>
                <a:gridCol w="1176480"/>
              </a:tblGrid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EtSS’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flipH="1">
            <a:off x="4114440" y="4191120"/>
            <a:ext cx="30492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724200" y="556272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mmar is ambiguous and it is evident by the fact that we have two entries corresponding to M[S’,e] containing 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€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S’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. This ambiguity can be resolved if we choo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’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i.e associating the else’s with the closest previous “then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that the ambiguity will be solved if we use LL(2) parser, i.e. always see for the two input symbols. 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input is ‘e’ then it looks at next input. Depending on the next input we choose the appropriate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(1) grammars have distinct properties. -No ambiguous grammar or left recursive grammar can be LL(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rammar is LL(1) if and only if whenever a production 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 | D the following conditions ho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For no terminal a both C and D derive strings beginning with 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 First(C) != First(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At most one of C or D can deriv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If C* € then D does not derive any string beginning with terminal Follow(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d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kesh Kumar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4CS1013,CS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T Kharagp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facweb.iitkgp.ernet.in/~niloy/COURSE/Autumn2006/Compiler/main.html#Le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2514600"/>
            <a:ext cx="358164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LL signify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L means that the scanning takes place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t to r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cond L means that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t derivation is produced fir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prime requirements are :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sing 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b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sing program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 buffer contains the string to be parsed, followed by $ ,a  symbol used to indicate end of the input string. The stack indicates a  sequence of grammar symbols with $ on the bottom,indicating bottom of     the stack. Initially, the stack contains the start symbol of the grammar on the top of $. The parsing table is a 2-D array  M[A,a] where A is a nonterminal, and a is a terminal or the symbol $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w to control the pars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X=a=$ , parser halts, string accep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X=a !=$ , parser pops X, and advances the input pointer to point to next input symb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X is a non-terminal, the program consults entry M[X,a] of the parsing table M. Replace the top of stack(X) with production rule corresponding to entry in table. If entry = ERROR, call error recovery rout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Algo for Construction of predictive parsing table 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ach production A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of grammar G, do steps 2 an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ach terminal 'a' in FIRST(a) , add  A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 M[A,a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e is in FIRST(a) , add A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 M[A,b] for each terminal b in FOLLOW(A). If ë is in FIRST(a ) , and $ is in FOLLOW(A), then add A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to M[A,$]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each undefined entry as “ERROR”, i.e. An error ent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ampl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'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'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TE' |  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T'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'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FT' |  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) | 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ë stands for epsil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rst and Follo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1828800"/>
                <a:gridCol w="3657600"/>
                <a:gridCol w="2743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,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,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,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,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$,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,$,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,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,+,$,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the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981080"/>
          <a:ext cx="8534160" cy="4632480"/>
        </p:xfrm>
        <a:graphic>
          <a:graphicData uri="http://schemas.openxmlformats.org/drawingml/2006/table">
            <a:tbl>
              <a:tblPr/>
              <a:tblGrid>
                <a:gridCol w="457200"/>
                <a:gridCol w="1295280"/>
                <a:gridCol w="1600200"/>
                <a:gridCol w="1523880"/>
                <a:gridCol w="1295640"/>
                <a:gridCol w="129528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TE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T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T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FT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ë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put=id+id*i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98108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put buff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+id*id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+id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+id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i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+id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'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id*id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id*id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id*id$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E'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d*id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8:53:03Z</dcterms:created>
  <dc:creator>mukesh</dc:creator>
  <dc:description/>
  <dc:language>en-US</dc:language>
  <cp:lastModifiedBy>mukesh</cp:lastModifiedBy>
  <dcterms:modified xsi:type="dcterms:W3CDTF">2006-09-14T09:10:47Z</dcterms:modified>
  <cp:revision>13</cp:revision>
  <dc:subject/>
  <dc:title>LL(1) Parser</dc:title>
</cp:coreProperties>
</file>