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EAC-E468-41AC-8300-CCBA78B2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9DA-F43F-447E-A397-8DCA7B60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6E8-02B4-41E5-947A-A2F19104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ED2-A490-4F4C-AD08-FA6310EF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A2B-3F2B-4235-9ACE-E39E0A5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2FC-F239-4D45-887D-3EA4D154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4B0-E632-4AD0-BB02-DC0579BC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F2A-7608-4EA6-A097-D3D0343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26B-9A08-4D25-AD25-5F79C819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A57-0428-44F1-A2A7-639B2BF5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698-C043-4577-9F84-F54444D6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7BC-6E9D-47CE-9F09-EE70ECB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F483-4553-4CA7-BFE1-55CF9CB77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" y="455760"/>
            <a:ext cx="8875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UBSET CONSTR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doni MT"/>
              </a:rPr>
              <a:t>CONVERSION OF NFA TO DF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0" y="1828440"/>
            <a:ext cx="88257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ethod is used for converting 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81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FA having epsilon transition into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30384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lgorithm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0" y="1523520"/>
            <a:ext cx="8224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et the DFA be D &amp; its transi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able be DTran. Dstates represent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the states of the DF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et NFA be 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7000" y="4037760"/>
            <a:ext cx="9167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nitially e-closure(s) {start state of NFA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s the only state in    Dstate and i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nmarke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5943600"/>
            <a:ext cx="205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there is an unmarked state T in Dstat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ark 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each input symbol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U=e-closure(move(T,a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f U is not in Dstates 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dd U as unmarked state to Dst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tran[T,a]=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9960" y="6095880"/>
            <a:ext cx="1756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state D is an accepting state i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t is a set of NFA  states containing atlea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ne accepting state of the N.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106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 NF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828800"/>
          <a:ext cx="8229600" cy="4865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psilon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1 , 7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4 , 2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3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6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5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6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1 , 7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8 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 9 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10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( f )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125160" y="129420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PUT(TERMINAL OR E(EPSILON)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 denotes the start stat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 denotes it is a final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ALCULATION OF e-CL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0)={0,1,2,4,7}=A=start state in corresponding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A,a))={1,2,3,4,6,7,8}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A,b))={1,2,4,5,6,7}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B,a))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B,b))={1,2,5,6,7,9}=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C,a))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C,b))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D,a))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D,b))={1,2,4,5,6,7,10}=E=fin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E,a))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losure(move(E,b))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FINAL DF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52480" y="2133720"/>
          <a:ext cx="5257800" cy="2514600"/>
        </p:xfrm>
        <a:graphic>
          <a:graphicData uri="http://schemas.openxmlformats.org/drawingml/2006/table">
            <a:tbl>
              <a:tblPr/>
              <a:tblGrid>
                <a:gridCol w="2057400"/>
                <a:gridCol w="1523880"/>
                <a:gridCol w="16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 f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816360" y="159948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PUT(TERMI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95280" y="388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panjan Sengup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04CS1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1:24:37Z</dcterms:created>
  <dc:creator>subhra</dc:creator>
  <dc:description/>
  <dc:language>en-US</dc:language>
  <cp:lastModifiedBy>subhra</cp:lastModifiedBy>
  <dcterms:modified xsi:type="dcterms:W3CDTF">2006-09-09T05:42:40Z</dcterms:modified>
  <cp:revision>37</cp:revision>
  <dc:subject/>
  <dc:title>Slide 1</dc:title>
</cp:coreProperties>
</file>