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A03-13D2-434A-8AF1-AACF24C8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D98-E6CD-45F2-AFE5-5FC730A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0EA-B71C-4620-BD91-A6A86FD1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1C8-A12D-4FDD-A898-26EC0600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7605-C830-4460-A8C3-2E466318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B96C-53EE-4D09-83C9-FF5F672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49B2-C6E3-453E-8F36-3A343EC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48B-0BCE-4D05-A440-1787B60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0F60-5915-48FA-B618-E9B62F02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947C-D9B1-41C6-949A-08F4756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EFB3-13D8-45B8-9CD1-8DDDFF1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CCB-9FE1-46B1-9B6D-B15F1DD9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6D6-848B-4D8E-B500-782FE15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3919-BFEC-41B7-A014-C0A0293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462-3F07-41B6-931C-4236A6E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4CE-64CD-4D12-BC09-659E671D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C1B-E49B-4CE4-833D-CF589BD5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8F8-E2F8-4204-9CA3-A587D9B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E76-EC2B-4290-8C6E-30CFC86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68A-E072-4D17-A456-E049BD5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CDB-84DE-4277-915E-63945E9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E62-FA63-43B7-BCA9-4096606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4D1-B181-4DEF-BA9D-3A963D3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2B8-5C48-4AF5-BB9F-5DF2BE5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66B0-BBFC-4BD3-9C78-4B9B8B0D18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4151-AA4B-4397-8128-DD7C151A12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28954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pared by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hreyas Ashok Karkhedka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oll Number: 04CS3013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the str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&lt;b   or   c&lt;d   and   e&lt;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ssuming that the grammar is left associativ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rresponding intermediate cod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: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( a&lt;b ) goto L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L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2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L1: if ( c&lt;d ) goto L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L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4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L2: if ( e&lt;f ) goto L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L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3: …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4: …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ode after backpatching becom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if ( a&lt;b ) goto 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1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2:  L1:   if ( c&lt;d ) goto 1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4   L2:   if ( e&lt;f ) goto 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to 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3:    …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4:    …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code is more similar to the machin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define the function Backpatch (X , Y) as follow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ckpatch (X , Y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: replace the line numbers listed in ‘X’ with the value ‘Y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: We try to design the function Backpatch in such a way that ‘Y’ is unique for every ‘X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der the following gramma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r M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d M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not 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(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 → id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lop id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 → fal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 → tr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 →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rresponding semantic rules are given b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r M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patch( 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falselist,M.qu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truelist=merge(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truelist,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truelist)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.falselist=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false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and ME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patch(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truelist,M.qu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falselist=merge(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falselist,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falsel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truelist=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true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not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1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truelist =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false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falselist =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true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(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truelist =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true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 → i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relop i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{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truelist = makelist(nextqu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falselist = makelist(nextquad +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it( “if” i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lop id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“goto ____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it( “goto ____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 → fal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.falselist = makelist(nextqu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it( “goto ____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 → tr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.truelist = makelist(nextqu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it( “goto ____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}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patching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 →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.quad = nextqu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1:55:14Z</dcterms:created>
  <dc:creator>Shreyas</dc:creator>
  <dc:description/>
  <dc:language>en-US</dc:language>
  <cp:lastModifiedBy>Shreyas</cp:lastModifiedBy>
  <dcterms:modified xsi:type="dcterms:W3CDTF">2006-11-16T12:53:42Z</dcterms:modified>
  <cp:revision>16</cp:revision>
  <dc:subject/>
  <dc:title>Backpatching II</dc:title>
</cp:coreProperties>
</file>