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009F-118C-4693-AEF0-A3113DC95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32FB-2FFE-4CFC-BD2E-C92F876FF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B4F3-A266-401A-B7A4-EA020E879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9AE6-3EAC-4578-A657-011EEE742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A9891-3216-49BF-A874-B46951795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D87CB-57AF-40B4-9BB6-4945BE87F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F71F7-A244-4621-B552-0BF0A7E0A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39CB3-3BAB-421D-A4DF-10E9C9E14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886A3-6DEF-4601-ABF3-FA3D805F8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3FF62-60EA-4750-9EE7-BD0A1E876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3DF4F-0966-4141-9FF7-FF26C0B9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F01C-7A2A-45CF-9277-8F0028595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DA0D0-595C-4AE9-BD88-5A8ACECA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09405-743A-4642-9CBF-1D04370F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04D04-2E2C-486D-9091-94F097623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5E6D0-F239-4B24-86C2-7B1887B4F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DF85E-58F6-4868-9B80-B1296FB07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C302-C5E2-433A-8EF5-B054F960C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9D24-E869-44AC-AF9E-AC359D181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F482-75CD-47AF-A5F0-E8EDB7557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9F8E-B492-4E0D-A0DE-BF43BB474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3BAF-DA21-4B7E-817A-41C9DA68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2CBD-B23D-4FD1-A063-B0823D5E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03A6-6C4D-488E-821D-29D69A5C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782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7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5EE2B-1B9D-46B8-A3B3-1DB25395DA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782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7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1216A-E227-42F6-8BC8-72837A130C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  <a:ea typeface="굴림"/>
              </a:rPr>
              <a:t>Three-address code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굴림"/>
              </a:rPr>
              <a:t>A more common representation is THREE-ADDRESS CODE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굴림"/>
              </a:rPr>
              <a:t>Three address code is close to assembly language, making machine code generation easi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굴림"/>
              </a:rPr>
              <a:t>Three address has statements of the 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64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x := y op 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굴림"/>
              </a:rPr>
              <a:t>To get an expression like x + y * z, we introduce TEMPORARI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64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t1 := y * 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64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t2 := x + t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굴림"/>
              </a:rPr>
              <a:t>Three address is easy to generate from syntax trees. We associate a temporary with each interior tree no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2472-9FEE-4776-AC13-FC3EDD13B0B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ffcc"/>
                </a:solidFill>
                <a:latin typeface="Times New Roman"/>
                <a:ea typeface="굴림"/>
              </a:rPr>
              <a:t>Translation scheme for decls in a procedure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lvl="1" marL="66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P -&gt; D</a:t>
            </a: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{ offset := 0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D -&gt; D ; 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D -&gt; id : T </a:t>
            </a: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{ enter( id.name, T.type, offset 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  </a:t>
            </a: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offset := offset + T.width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T -&gt; integer </a:t>
            </a: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{ T.type := integer; T.width := 4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T -&gt; real </a:t>
            </a: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{ T.type := real; T.width := 8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T -&gt; array [ num ] of T1 </a:t>
            </a: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{ T.type := array( num.val, T1.type 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  </a:t>
            </a: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T.width := num.val * T1.width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T -&gt; ^ T1 </a:t>
            </a: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{ T.type := pointer( T1.type 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  </a:t>
            </a: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T.width := 4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4E22-46FD-4E88-BCF7-AEA6C9A27C5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  <a:ea typeface="굴림"/>
              </a:rPr>
              <a:t>Keeping track of scope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굴림"/>
              </a:rPr>
              <a:t>When nested procedures or blocks are entered, we need to suspend processing declarations in the enclosing scop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굴림"/>
              </a:rPr>
              <a:t>Let’s change the gramma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P -&gt; 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D -&gt; D ; D | id : T | proc id ; D ; 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E6EE-D0D5-4342-A2A7-55C57149A10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  <a:ea typeface="굴림"/>
              </a:rPr>
              <a:t>Keeping track of scope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Times New Roman"/>
                <a:ea typeface="굴림"/>
              </a:rPr>
              <a:t>Suppose we have a separate ST(Symbol table) for each proced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Times New Roman"/>
                <a:ea typeface="굴림"/>
              </a:rPr>
              <a:t>When we enter a procedure declaration, we create a new S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Times New Roman"/>
                <a:ea typeface="굴림"/>
              </a:rPr>
              <a:t>The new ST points back to the ST of the enclosing proced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Times New Roman"/>
                <a:ea typeface="굴림"/>
              </a:rPr>
              <a:t>The name of the procedure is a local for the enclosing proced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38D1-938D-4931-B7F2-EAF9C5E66B2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00000" y="765000"/>
            <a:ext cx="7361280" cy="5407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7D9A-E729-49FD-A906-D9F8E69B3A7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Times New Roman"/>
                <a:ea typeface="굴림"/>
              </a:rPr>
              <a:t>Operations supporting nested ST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Times New Roman"/>
                <a:ea typeface="굴림"/>
              </a:rPr>
              <a:t>mktable(previous)</a:t>
            </a:r>
            <a:r>
              <a:rPr b="0" lang="ko-KR" sz="3200" spc="-1" strike="noStrike">
                <a:solidFill>
                  <a:srgbClr val="ffffff"/>
                </a:solidFill>
                <a:latin typeface="Times New Roman"/>
                <a:ea typeface="굴림"/>
              </a:rPr>
              <a:t> creates a new symbol table pointing to </a:t>
            </a:r>
            <a:r>
              <a:rPr b="1" lang="ko-KR" sz="3200" spc="-1" strike="noStrike">
                <a:solidFill>
                  <a:srgbClr val="ffffff"/>
                </a:solidFill>
                <a:latin typeface="Times New Roman"/>
                <a:ea typeface="굴림"/>
              </a:rPr>
              <a:t>previous</a:t>
            </a:r>
            <a:r>
              <a:rPr b="0" lang="ko-KR" sz="3200" spc="-1" strike="noStrike">
                <a:solidFill>
                  <a:srgbClr val="ffffff"/>
                </a:solidFill>
                <a:latin typeface="Times New Roman"/>
                <a:ea typeface="굴림"/>
              </a:rPr>
              <a:t>, and returns a pointer to the new tab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Times New Roman"/>
                <a:ea typeface="굴림"/>
              </a:rPr>
              <a:t>enter(table,name,type,offset)</a:t>
            </a:r>
            <a:r>
              <a:rPr b="0" lang="ko-KR" sz="3200" spc="-1" strike="noStrike">
                <a:solidFill>
                  <a:srgbClr val="ffffff"/>
                </a:solidFill>
                <a:latin typeface="Times New Roman"/>
                <a:ea typeface="굴림"/>
              </a:rPr>
              <a:t> creates a new entry for </a:t>
            </a:r>
            <a:r>
              <a:rPr b="1" lang="ko-KR" sz="3200" spc="-1" strike="noStrike">
                <a:solidFill>
                  <a:srgbClr val="ffffff"/>
                </a:solidFill>
                <a:latin typeface="Times New Roman"/>
                <a:ea typeface="굴림"/>
              </a:rPr>
              <a:t>name</a:t>
            </a:r>
            <a:r>
              <a:rPr b="0" lang="ko-KR" sz="3200" spc="-1" strike="noStrike">
                <a:solidFill>
                  <a:srgbClr val="ffffff"/>
                </a:solidFill>
                <a:latin typeface="Times New Roman"/>
                <a:ea typeface="굴림"/>
              </a:rPr>
              <a:t> in a symbol table with the given type and off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Times New Roman"/>
                <a:ea typeface="굴림"/>
              </a:rPr>
              <a:t>addwidth(table,width)</a:t>
            </a:r>
            <a:r>
              <a:rPr b="0" lang="ko-KR" sz="3200" spc="-1" strike="noStrike">
                <a:solidFill>
                  <a:srgbClr val="ffffff"/>
                </a:solidFill>
                <a:latin typeface="Times New Roman"/>
                <a:ea typeface="굴림"/>
              </a:rPr>
              <a:t> records the width of ALL the entries in </a:t>
            </a:r>
            <a:r>
              <a:rPr b="1" lang="ko-KR" sz="3200" spc="-1" strike="noStrike">
                <a:solidFill>
                  <a:srgbClr val="ffffff"/>
                </a:solidFill>
                <a:latin typeface="Times New Roman"/>
                <a:ea typeface="굴림"/>
              </a:rPr>
              <a:t>table</a:t>
            </a:r>
            <a:r>
              <a:rPr b="0" lang="ko-KR" sz="3200" spc="-1" strike="noStrike">
                <a:solidFill>
                  <a:srgbClr val="ffffff"/>
                </a:solidFill>
                <a:latin typeface="Times New Roman"/>
                <a:ea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Times New Roman"/>
                <a:ea typeface="굴림"/>
              </a:rPr>
              <a:t>enterproc(table,name,newtable)</a:t>
            </a:r>
            <a:r>
              <a:rPr b="0" lang="ko-KR" sz="3200" spc="-1" strike="noStrike">
                <a:solidFill>
                  <a:srgbClr val="ffffff"/>
                </a:solidFill>
                <a:latin typeface="Times New Roman"/>
                <a:ea typeface="굴림"/>
              </a:rPr>
              <a:t> creates a new entry for procedure name in ST table, and links it to </a:t>
            </a:r>
            <a:r>
              <a:rPr b="1" lang="ko-KR" sz="3200" spc="-1" strike="noStrike">
                <a:solidFill>
                  <a:srgbClr val="ffffff"/>
                </a:solidFill>
                <a:latin typeface="Times New Roman"/>
                <a:ea typeface="굴림"/>
              </a:rPr>
              <a:t>newtable</a:t>
            </a:r>
            <a:r>
              <a:rPr b="0" lang="ko-KR" sz="3200" spc="-1" strike="noStrike">
                <a:solidFill>
                  <a:srgbClr val="ffffff"/>
                </a:solidFill>
                <a:latin typeface="Times New Roman"/>
                <a:ea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D8C3-8BBA-46CD-9153-6E954A18832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굴림"/>
              </a:rPr>
              <a:t>Translation scheme for nested procedures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P -&gt; M D 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{ addwidth(top(tblptr), top(offset)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pop(tblptr); pop(offset)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M -&gt;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ε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{ t := mktable(nil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push(t,tblptr); push(0,offset);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D -&gt; D1 ; D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D -&gt; proc id ; N D1 ; S 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{ t := top(tblptr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addwidth(t,top(offset)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pop(tblptr); pop(offset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enterproc(top(tblptr),id.name,t)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D -&gt; id : T 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{ enter(top(tblptr),id.name,T.type,top(offset)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top(offset) := top(offset)+T.width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N -&gt; ε 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{ t := mktable( top( tblptr )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push(t,tblptr); push(0,offset)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002360" y="2168640"/>
            <a:ext cx="9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tacks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6659280" y="1988640"/>
            <a:ext cx="360360" cy="28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5364000" y="1915920"/>
            <a:ext cx="1656000" cy="43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EBCE-3A43-4A53-9EA8-B6673450CEB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  <a:ea typeface="굴림"/>
              </a:rPr>
              <a:t>Record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Records take a little more wor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Each record type also needs its own symbol tabl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T -&gt; record L D end 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{ T.type := record(top(tblptr)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T.width := top(offset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pop(tblptr); pop(offset);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L -&gt; ε 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{ t := mktable(nil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push(t,tblptr); push(0,offset);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D8F7-F274-422F-8BA6-6CB30795947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  <a:ea typeface="굴림"/>
              </a:rPr>
              <a:t>Adding ST lookups to assignment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Let’s attach our assignment grammar to the procedure</a:t>
            </a:r>
            <a:br>
              <a:rPr sz="2400"/>
            </a:b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declarations gramm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S -&gt; id := E </a:t>
            </a:r>
            <a:r>
              <a:rPr b="0" lang="ko-KR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{ p := lookup(id.name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if p != nil then emit( p ‘:=‘ E.place ) else error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E -&gt; E1 + E2 </a:t>
            </a:r>
            <a:r>
              <a:rPr b="0" lang="ko-KR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{ E.place := newtemp(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emit( E.place ‘:=‘ E1.place ‘+’ E2.place )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E -&gt; E1 * E2 </a:t>
            </a:r>
            <a:r>
              <a:rPr b="0" lang="ko-KR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{ E.place := newtemp(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emit( E.place ‘:=‘ E1.place ‘*’ E2.place )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E -&gt; - E1 </a:t>
            </a:r>
            <a:r>
              <a:rPr b="0" lang="ko-KR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{ E.place := newtemp(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emit( E.place ‘:=‘ ‘uminus’ E1.place )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E -&gt; ( E1 ) </a:t>
            </a:r>
            <a:r>
              <a:rPr b="0" lang="ko-KR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{ E.place := E1.place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E -&gt; id </a:t>
            </a:r>
            <a:r>
              <a:rPr b="0" lang="ko-KR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{ p := lookup(id.name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if p != nil then E.place := p else error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lookup() now starts with the table top(tblptr) and searches all enclosing scop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91560" y="2060640"/>
            <a:ext cx="21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굴림"/>
              </a:rPr>
              <a:t>write to output file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4140000" y="2421000"/>
            <a:ext cx="115236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DAC3-EF12-422D-99A2-0E7F9459C14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1900080" y="2136600"/>
            <a:ext cx="534384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repared by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nmol Ratan Bhuinya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(04CS1035)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39DC-BEF6-4AE8-8F20-1C161D355AD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  <a:ea typeface="굴림"/>
              </a:rPr>
              <a:t>Types of Three Address code statements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308160" indent="-308160">
              <a:spcBef>
                <a:spcPts val="700"/>
              </a:spcBef>
              <a:buClr>
                <a:srgbClr val="9966ff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Assignment statements of the form x := y op z, where op is a binary arithmetic or logical oper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160" indent="-308160">
              <a:spcBef>
                <a:spcPts val="700"/>
              </a:spcBef>
              <a:buClr>
                <a:srgbClr val="9966ff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Assignement statements of the form x := op Y, where op is a unary operator, such as unary minus, logical neg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160" indent="-308160">
              <a:spcBef>
                <a:spcPts val="700"/>
              </a:spcBef>
              <a:buClr>
                <a:srgbClr val="9966ff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Copy statements of the form x := y, which assigns the value of y to x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160" indent="-308160">
              <a:spcBef>
                <a:spcPts val="700"/>
              </a:spcBef>
              <a:buClr>
                <a:srgbClr val="9966ff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Unconditional statements goto L, which means the statement with label L is the next to be execut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160" indent="-308160">
              <a:spcBef>
                <a:spcPts val="700"/>
              </a:spcBef>
              <a:buClr>
                <a:srgbClr val="9966ff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Conditional jumps, such as if x relop y goto L, where relop is a relational operator (&lt;, =, &gt;=, etc) and L is a label. (If the condition x relop y is true, the statement with label L will be executed next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C8B1-A076-4F45-81C2-7BFAA7EE24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  <a:ea typeface="굴림"/>
              </a:rPr>
              <a:t>Types of Three Address Code statements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356400" indent="-356400">
              <a:lnSpc>
                <a:spcPct val="80000"/>
              </a:lnSpc>
              <a:spcBef>
                <a:spcPts val="700"/>
              </a:spcBef>
              <a:buClr>
                <a:srgbClr val="9966ff"/>
              </a:buClr>
              <a:buSzPct val="60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Statements param x and call p, n for procedure calls, and return y, where y represents the (optional) returned value. The typical usage: p(x1, …, xn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param x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param x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param x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call p,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6400" indent="-356400">
              <a:lnSpc>
                <a:spcPct val="80000"/>
              </a:lnSpc>
              <a:spcBef>
                <a:spcPts val="700"/>
              </a:spcBef>
              <a:buClr>
                <a:srgbClr val="9966ff"/>
              </a:buClr>
              <a:buSzPct val="60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Index assignments of the form x := y[i] and x[i] := y. The first sets x to the value in the location i memory units beyond location y. The second sets the content of the location i unit beyond x to the value of 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6400" indent="-356400">
              <a:lnSpc>
                <a:spcPct val="80000"/>
              </a:lnSpc>
              <a:spcBef>
                <a:spcPts val="700"/>
              </a:spcBef>
              <a:buClr>
                <a:srgbClr val="9966ff"/>
              </a:buClr>
              <a:buSzPct val="60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Address and pointer assignment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x := &amp;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x := *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*x := 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2FFA-E09D-464E-A9F6-E48E4A0895F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  <a:ea typeface="굴림"/>
              </a:rPr>
              <a:t>Syntax-directed generation of Three Address Code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Times New Roman"/>
                <a:ea typeface="굴림"/>
              </a:rPr>
              <a:t>Idea: expressions get two attribut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E.place: a name to hold the value of E at run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id.place is just the lexeme for the 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E.code: the sequence of 3AC statements implementing 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Times New Roman"/>
                <a:ea typeface="굴림"/>
              </a:rPr>
              <a:t>We associate temporary names for interior nodes of the syntax tre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The function newtemp() returns a fresh temporary name on each invo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28B3-8C1B-4E78-B3DC-025A77A628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  <a:ea typeface="굴림"/>
              </a:rPr>
              <a:t>Syntax-directed translation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For ASSIGNMENT statements and expressions, we can use this SD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ffffff"/>
                </a:solidFill>
                <a:uFillTx/>
                <a:latin typeface="Times New Roman"/>
                <a:ea typeface="굴림"/>
              </a:rPr>
              <a:t>Production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 u="sng">
                <a:solidFill>
                  <a:srgbClr val="ffffff"/>
                </a:solidFill>
                <a:uFillTx/>
                <a:latin typeface="Times New Roman"/>
                <a:ea typeface="굴림"/>
              </a:rPr>
              <a:t>Semantic Ru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S -&gt; id := E 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S.code := E.code || gen( id.place ‘:=‘ E.place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E -&gt; E1 + E2 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E.place := newtemp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E.code := E1.code || E2.code ||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gen( E.place ‘:=‘ E1.place ‘+’ E2.place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E -&gt; E1 * E2 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E.place := newtemp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E.code := E1.code || E2.code ||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gen( E.place ‘:=‘ E1.place ‘*’ E2.place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E -&gt; - E1 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E.place := newtemp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E.code := E1.code || gen( E.place ‘:=‘ ‘uminus’</a:t>
            </a:r>
            <a:br>
              <a:rPr sz="2400"/>
            </a:b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 E1.place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E -&gt; ( E1 ) 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E.place := E1.place; E.code := E1.c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E -&gt; id 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E.place := id.place; E.code := ‘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B7ED-19ED-4CCB-BA58-A13881D092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  <a:ea typeface="굴림"/>
              </a:rPr>
              <a:t>Three Address Code implementation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Times New Roman"/>
                <a:ea typeface="굴림"/>
              </a:rPr>
              <a:t>The main representation is QUADRUPLES (structs containing 4 field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OP: the oper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ARG1: the first oper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ARG2: the second oper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RESULT: the destin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A149-A465-4683-BFCB-965E1933A5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  <a:ea typeface="굴림"/>
              </a:rPr>
              <a:t>Three Address Code implementation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32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굴림"/>
              </a:rPr>
              <a:t>Cod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a := b * -c + b * -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굴림"/>
              </a:rPr>
              <a:t>Three Address Cod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t1 := -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t2 := b * 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t3 := -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t4 := b * 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t5 := t2 + t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a := t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851280" y="2781360"/>
            <a:ext cx="4687920" cy="2955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2573-38DA-44C4-98A1-3D03CDCDC97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  <a:ea typeface="굴림"/>
              </a:rPr>
              <a:t>Declaration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Times New Roman"/>
                <a:ea typeface="굴림"/>
              </a:rPr>
              <a:t>When we encounter declarations, we need to lay out storage for the declared variab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Times New Roman"/>
                <a:ea typeface="굴림"/>
              </a:rPr>
              <a:t>For every local name in a procedure, we create a ST(Symbol Table) entry contain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The type of the na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How much storage the name requi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A relative offset from the beginning of the static data area or beginning of the activation recor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Times New Roman"/>
                <a:ea typeface="굴림"/>
              </a:rPr>
              <a:t>For intermediate code generation, we try not to worry about machine-specific issues like word align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A68E-33E9-4C64-9518-5C2EE2A4069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  <a:ea typeface="굴림"/>
              </a:rPr>
              <a:t>Declaration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굴림"/>
              </a:rPr>
              <a:t>To keep track of the current offset into the static data area or the AR, the compiler maintains a global variable, OFF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굴림"/>
              </a:rPr>
              <a:t>OFFSET is initialized to 0 when we begin compil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굴림"/>
              </a:rPr>
              <a:t>After each declaration, OFFSET is incremented by the size of the declared variab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8AD5-D5E1-4AEC-9BFB-7268A168CF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0T07:14:21Z</dcterms:created>
  <dc:creator>os</dc:creator>
  <dc:description/>
  <dc:language>en-US</dc:language>
  <cp:lastModifiedBy>ANMOL</cp:lastModifiedBy>
  <dcterms:modified xsi:type="dcterms:W3CDTF">2006-11-09T07:37:44Z</dcterms:modified>
  <cp:revision>88</cp:revision>
  <dc:subject/>
  <dc:title>ITS 015: Compiler Construction</dc:title>
</cp:coreProperties>
</file>