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E34707-D6BC-4EBB-B80A-2B60B53DC55C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11E-7E5C-4571-9167-F5919659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B58-3AE7-493C-9542-E4B29239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9EC-6BA4-414E-BA9A-960FCBED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9F4-DB09-4684-9D23-9A3B2500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BC0-D99E-4913-8ED2-DCD07446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766-69AC-4151-88D8-AF568923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24B-A405-483E-85A1-E884649A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CBE-6291-4CC0-9CED-215DA166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2B3-054A-4F89-9CCB-D0099DBD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8F0-40D9-4295-8EFF-25F90601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89C-6DD1-461F-B571-E29CC586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540-CB09-4A71-8970-EB960219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384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54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086F96-78B3-4077-B87C-8629E109E19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594240" y="2882880"/>
          <a:ext cx="6126120" cy="10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4240" y="2882880"/>
                    <a:ext cx="61261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DejaVu Sans"/>
              </a:rPr>
              <a:t>To calculate FOLLOW’s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765080"/>
            <a:ext cx="9072360" cy="49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a) To calculate FOLLOW(S)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          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Since S is start symbol, add $ to FOLLOW(S)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          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From rule S--&gt;aABe  , we don’t get any contribution to the 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          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FOLLOW(S)          /*See rules 2 and 3  for FOLLOW*/ 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          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From rule A--&gt;Abc   , since no where we see any symbol S, so  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          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no contribution to FOLLOW(A) is found in this rule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          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From rule A--&gt;b , again no contribution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          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From rule B--&gt;d, again no contribution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          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Hence </a:t>
            </a:r>
            <a:r>
              <a:rPr b="1" i="1" lang="en-GB" sz="2600" spc="-1" strike="noStrike" u="sng">
                <a:solidFill>
                  <a:srgbClr val="000000"/>
                </a:solidFill>
                <a:uFillTx/>
                <a:latin typeface="DejaVu Sans"/>
              </a:rPr>
              <a:t>FOLLOW(S) ={$}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3280" y="1498680"/>
            <a:ext cx="907236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b) To calculate FOLLOW(A) :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From rules A--&gt;b , B--&gt;d   we get no contribution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From rule S--&gt;aABe    we expect to get some contribution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See rule 2 of forming FOLLOW(on page 2)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As per that , we can add everything in FIRST(Be) in FOLLOW(A)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except for epsilon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FIRST(Be)=FIRST(B) ={d}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So add 'd' to FOLLOW(A)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Since Be is not nullable, so we can't use the rule 3 (See page 2)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For rule   A--&gt;Abc ,  we do get some contribution straight away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From rule 2(page 2), 'b' belongs to FOLLOW(A)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No other rule will help give an element in FOLLOW(A)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Hence </a:t>
            </a:r>
            <a:r>
              <a:rPr b="1" i="1" lang="en-GB" sz="2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1" i="1" lang="en-GB" sz="2200" spc="-1" strike="noStrike" u="sng">
                <a:solidFill>
                  <a:srgbClr val="000000"/>
                </a:solidFill>
                <a:uFillTx/>
                <a:latin typeface="DejaVu Sans"/>
              </a:rPr>
              <a:t>FOLLOW(A)={d,b}</a:t>
            </a:r>
            <a:r>
              <a:rPr b="1" i="1" lang="en-GB" sz="22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3280" y="1814400"/>
            <a:ext cx="907236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)  To calculate FOLLOW(B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Only rule S--&gt;aABe contributes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By rule 2 , 'e' belongs to FOLLOW(B)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Hence </a:t>
            </a:r>
            <a:r>
              <a:rPr b="1" i="1" lang="en-GB" sz="2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DejaVu Sans"/>
              </a:rPr>
              <a:t>FOLLOW(B)={e}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1" lang="en-GB" sz="3600" spc="-1" strike="noStrike">
                <a:solidFill>
                  <a:srgbClr val="800000"/>
                </a:solidFill>
                <a:latin typeface="DejaVu Sans"/>
              </a:rPr>
              <a:t>LL PARSER</a:t>
            </a:r>
            <a:r>
              <a:rPr b="1" lang="en-GB" sz="3600" spc="-1" strike="noStrike">
                <a:solidFill>
                  <a:srgbClr val="000000"/>
                </a:solidFill>
                <a:latin typeface="DejaVu San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The construction of a predictive parser is aided by two functions associated with a grammar called FIRST and FOLLOW. These functions allows us to fill the entries of the predictive parsing table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993300"/>
                </a:solidFill>
                <a:latin typeface="DejaVu Sans"/>
              </a:rPr>
              <a:t>FIRST</a:t>
            </a:r>
            <a:r>
              <a:rPr b="0" lang="en-GB" sz="3600" spc="-1" strike="noStrike">
                <a:solidFill>
                  <a:srgbClr val="003300"/>
                </a:solidFill>
                <a:latin typeface="DejaVu San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We associate each grammar symbol A with the set FIRST(A). The implication of this set is that the grammar symbol A can in some steps of transition produce the elements of the set FIRST(A)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f '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' is any string of grammar symbols, let FIRST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) be the set of terminals that begin the string derived fro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. If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=*=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then add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to FIRST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DejaVu Sans"/>
              </a:rPr>
              <a:t>RULES TO COMPUTE FIRST SET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1) If X is a terminal , then FIRST(X) is {X}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2)  If X--&gt;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GB" sz="2600" spc="-1" strike="noStrike">
                <a:solidFill>
                  <a:srgbClr val="000000"/>
                </a:solidFill>
                <a:latin typeface="Times;Times New Roman"/>
                <a:ea typeface="Times;Times New Roman"/>
              </a:rPr>
              <a:t> then add є  to FIRST(X)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3)</a:t>
            </a:r>
            <a:r>
              <a:rPr b="0" lang="en-GB" sz="2600" spc="-1" strike="noStrike">
                <a:solidFill>
                  <a:srgbClr val="000000"/>
                </a:solidFill>
                <a:latin typeface="Times;Times New Roman"/>
              </a:rPr>
              <a:t>  If X is a nonterminal and X--&gt;Y</a:t>
            </a:r>
            <a:r>
              <a:rPr b="0" lang="en-GB" sz="2600" spc="-1" strike="noStrike">
                <a:solidFill>
                  <a:srgbClr val="000000"/>
                </a:solidFill>
                <a:latin typeface="Times;Times New Roman"/>
                <a:ea typeface="Times;Times New Roman"/>
              </a:rPr>
              <a:t>1Y2Y3...Yn , then put 'a' in 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;Times New Roman"/>
              </a:rPr>
              <a:t>FIRST(X) if for some i, a is in FIRST(Y</a:t>
            </a:r>
            <a:r>
              <a:rPr b="0" lang="en-GB" sz="2600" spc="-1" strike="noStrike">
                <a:solidFill>
                  <a:srgbClr val="000000"/>
                </a:solidFill>
                <a:latin typeface="Times;Times New Roman"/>
                <a:ea typeface="Times;Times New Roman"/>
              </a:rPr>
              <a:t>i) and є is in all of 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;Times New Roman"/>
              </a:rPr>
              <a:t>FIRST(Y</a:t>
            </a:r>
            <a:r>
              <a:rPr b="0" lang="en-GB" sz="2600" spc="-1" strike="noStrike">
                <a:solidFill>
                  <a:srgbClr val="000000"/>
                </a:solidFill>
                <a:latin typeface="Times;Times New Roman"/>
                <a:ea typeface="Times;Times New Roman"/>
              </a:rPr>
              <a:t>1),...FIRST(Yi-1);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;Times New Roman"/>
              </a:rPr>
              <a:t>In other words,  Y</a:t>
            </a:r>
            <a:r>
              <a:rPr b="0" lang="en-GB" sz="2600" spc="-1" strike="noStrike">
                <a:solidFill>
                  <a:srgbClr val="000000"/>
                </a:solidFill>
                <a:latin typeface="Times;Times New Roman"/>
                <a:ea typeface="Times;Times New Roman"/>
              </a:rPr>
              <a:t>1...Yi-1=*=&gt;є 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;Times New Roman"/>
              </a:rPr>
              <a:t>If є is in all of FIRST(Y</a:t>
            </a:r>
            <a:r>
              <a:rPr b="0" lang="en-GB" sz="2600" spc="-1" strike="noStrike">
                <a:solidFill>
                  <a:srgbClr val="000000"/>
                </a:solidFill>
                <a:latin typeface="Times;Times New Roman"/>
                <a:ea typeface="Times;Times New Roman"/>
              </a:rPr>
              <a:t>j) for all j=1,2....n, then add є to 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;Times New Roman"/>
              </a:rPr>
              <a:t>FIRST(X).This is so because all Yi's produce є, so X definitely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;Times New Roman"/>
              </a:rPr>
              <a:t>produces є       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Times;Times New Roman"/>
              </a:rPr>
              <a:t>FOLLOW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236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;Times New Roman"/>
              </a:rPr>
              <a:t>FOLLOW is defined only for non terminals of the grammar G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;Times New Roman"/>
              </a:rPr>
              <a:t>It can be defined as the set of terminals of grammar G , which can immediately follow the non terminal in a production rule from start symbol.   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;Times New Roman"/>
              </a:rPr>
              <a:t>In other words, if A is a nonterminal, then FOLLOW(A) is the set of</a:t>
            </a:r>
            <a:r>
              <a:rPr b="0" lang="en-GB" sz="2400" spc="-1" strike="noStrike">
                <a:solidFill>
                  <a:srgbClr val="000000"/>
                </a:solidFill>
                <a:latin typeface="Times;Times New Roman"/>
              </a:rPr>
              <a:t> terminals 'a' that can appear immediately  to the right of A in some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;Times New Roman"/>
              </a:rPr>
              <a:t>sentential  form, i.e. The set of terminals 'a' such that there exists a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;Times New Roman"/>
              </a:rPr>
              <a:t>derivation of the form S=*=&gt; αAaβ for some α</a:t>
            </a:r>
            <a:r>
              <a:rPr b="0" lang="en-GB" sz="2400" spc="-1" strike="noStrike">
                <a:solidFill>
                  <a:srgbClr val="000000"/>
                </a:solidFill>
                <a:latin typeface="Eli 5.0b;Times New Roman"/>
                <a:ea typeface="Eli 5.0b;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;Times New Roman"/>
                <a:ea typeface="Times;Times New Roman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Eli 5.0b;Times New Roman"/>
                <a:ea typeface="Eli 5.0b;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GB" sz="2400" spc="-1" strike="noStrike">
                <a:solidFill>
                  <a:srgbClr val="000000"/>
                </a:solidFill>
                <a:latin typeface="Times;Times New Roman"/>
                <a:ea typeface="Times;Times New Roman"/>
              </a:rPr>
              <a:t> (which can be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;Times New Roman"/>
              </a:rPr>
              <a:t>strings ,or empty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DejaVu Sans"/>
              </a:rPr>
              <a:t>RULES TO COMPUTE FOLLOW SET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;Times New Roman"/>
              </a:rPr>
              <a:t>1)If S is the start symbol, then add $ to the FOLLOW(S)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;Times New Roman"/>
              </a:rPr>
              <a:t>2)If there is a production rule A--&gt; αBβ then everything in FIRST(β) </a:t>
            </a:r>
            <a:r>
              <a:rPr b="0" lang="en-GB" sz="2800" spc="-1" strike="noStrike">
                <a:solidFill>
                  <a:srgbClr val="000000"/>
                </a:solidFill>
                <a:latin typeface="Times;Times New Roman"/>
              </a:rPr>
              <a:t>except for </a:t>
            </a:r>
            <a:r>
              <a:rPr b="0" lang="en-GB" sz="2800" spc="-1" strike="noStrike">
                <a:solidFill>
                  <a:srgbClr val="000000"/>
                </a:solidFill>
                <a:latin typeface="Times;Times New Roman"/>
                <a:ea typeface="Times;Times New Roman"/>
              </a:rPr>
              <a:t>є  is placed in FOLLOW(B)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;Times New Roman"/>
              </a:rPr>
              <a:t>3)If there is a production A--&gt; αB , or a production  A--&gt; αBβ where </a:t>
            </a:r>
            <a:r>
              <a:rPr b="0" lang="en-GB" sz="2800" spc="-1" strike="noStrike">
                <a:solidFill>
                  <a:srgbClr val="000000"/>
                </a:solidFill>
                <a:latin typeface="Times;Times New Roman"/>
                <a:ea typeface="Times;Times New Roman"/>
              </a:rPr>
              <a:t>FIRST(β) contains є</a:t>
            </a:r>
            <a:r>
              <a:rPr b="0" lang="en-GB" sz="2800" spc="-1" strike="noStrike">
                <a:solidFill>
                  <a:srgbClr val="000000"/>
                </a:solidFill>
                <a:latin typeface="Eli 5.0b;Times New Roman"/>
                <a:ea typeface="Eli 5.0b;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;Times New Roman"/>
                <a:ea typeface="Times;Times New Roman"/>
              </a:rPr>
              <a:t>then everything in FOLLOW(A) is in FOLLOW(B)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DejaVu Sans"/>
              </a:rPr>
              <a:t>Example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DejaVu Sans"/>
              </a:rPr>
              <a:t>Consider the following gramma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DejaVu Sans"/>
              </a:rPr>
              <a:t>  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DejaVu Sans"/>
              </a:rPr>
              <a:t>S-&gt; aAB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DejaVu Sans"/>
              </a:rPr>
              <a:t>  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DejaVu Sans"/>
              </a:rPr>
              <a:t>A--&gt;Abc |  b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DejaVu Sans"/>
              </a:rPr>
              <a:t>  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DejaVu Sans"/>
              </a:rPr>
              <a:t>B--&gt; d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DejaVu Sans"/>
              </a:rPr>
              <a:t>          </a:t>
            </a:r>
            <a:r>
              <a:rPr b="0" lang="en-GB" sz="4000" spc="-1" strike="noStrike">
                <a:solidFill>
                  <a:srgbClr val="000000"/>
                </a:solidFill>
                <a:latin typeface="DejaVu Sans"/>
              </a:rPr>
              <a:t>Find the FIRST and FOLLOW for each nonterminal of the grammar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DejaVu Sans"/>
              </a:rPr>
              <a:t>Solution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teps :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ind for every non terminal  if it is nullable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ind FIRST for every nonterminal using rules described earlier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Using the information got from calculations in steps 1 and 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one could calculate  FOLLOW for every nonterminal by rules described earlier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DejaVu Sans"/>
              </a:rPr>
              <a:t>To calculate FIRST’s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660320"/>
            <a:ext cx="9072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a)  To calculate FIRST(S) :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From rule   S--&gt;aABe   ,  we get 'a' belongs to FIRST(S)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No other rule will help give an element in FIRST(S)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So,   </a:t>
            </a:r>
            <a:r>
              <a:rPr b="1" i="1" lang="en-GB" sz="2200" spc="-1" strike="noStrike" u="sng">
                <a:solidFill>
                  <a:srgbClr val="000000"/>
                </a:solidFill>
                <a:uFillTx/>
                <a:latin typeface="DejaVu Sans"/>
              </a:rPr>
              <a:t>FIRST(S)={a}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b) To calculate FIRST(A) :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From rule  A--&gt;Abc  ,   we can't add any element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From rule  A--&gt;b   , we know that 'b' belongs to FIRST(A)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No other rule will help give an element in FIRST(A)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So,    </a:t>
            </a:r>
            <a:r>
              <a:rPr b="1" i="1" lang="en-GB" sz="2200" spc="-1" strike="noStrike" u="sng">
                <a:solidFill>
                  <a:srgbClr val="000000"/>
                </a:solidFill>
                <a:uFillTx/>
                <a:latin typeface="DejaVu Sans"/>
              </a:rPr>
              <a:t>FIRST(A)={b}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c) To calculate FIRST(B)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From rule B--&gt;d  ,  we add 'd' to FIRST(B)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No other rule will help give an element in FIRST(B)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So,   </a:t>
            </a:r>
            <a:r>
              <a:rPr b="1" i="1" lang="en-GB" sz="2200" spc="-1" strike="noStrike" u="sng">
                <a:solidFill>
                  <a:srgbClr val="000000"/>
                </a:solidFill>
                <a:uFillTx/>
                <a:latin typeface="DejaVu Sans"/>
              </a:rPr>
              <a:t>FIRST(B)={d}</a:t>
            </a:r>
            <a:r>
              <a:rPr b="0" lang="en-GB" sz="2200" spc="-1" strike="noStrike">
                <a:solidFill>
                  <a:srgbClr val="000000"/>
                </a:solidFill>
                <a:latin typeface="DejaVu Sans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