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80C-A6C8-488C-B8B6-6A61DA30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FA7-C592-40FC-BFBD-93835D4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9C1-0E60-4A95-976F-CD5FCDD9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C16-A4B1-4F9D-9771-D578D7CB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6C91-FB7F-4880-AAFC-76084E7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2940-5011-4888-828B-2DFE9A9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A41E-C120-4DBD-AC4A-F87B302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0BC-5302-4537-B0C7-9474018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7F26-9BBD-4417-B2B5-321A3A2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5B26-429B-488B-9AE7-90D4223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BA05-BB5D-4E52-A01E-966B770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8DA-57AF-4441-946A-F64D922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943-5DEE-4295-A7E9-C9A5DD0E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6B9B-37AA-41D8-9BFC-A8A6BBF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6985-8D1A-4F68-ADA6-E0F984E0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CA4-F539-4AC4-8202-A2956EDB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C41C-A4BE-4D0D-BC70-42673DC2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34A-5945-489C-A88C-5E7E91B5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424-2A44-4298-A098-8085586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602-5DCB-4FF3-A544-4F3541B8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B80-14BF-435B-92D3-8C8EBC0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F70-1A5F-4802-A17D-4F706893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34D-34F3-46E6-AA40-A060520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CD6-997C-415D-9783-CFF1B78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D33-6750-4636-AC85-ED67ED389F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31C-EB5E-4B74-8132-434154EF5F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AG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n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eep hole optimiza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7524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42670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 Shravan Kumar Redd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04cs302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ssues of optimiz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Breaking into basic block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Within block (Normalization optimiza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mong block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hings to consider for Normalization optimiz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emporary variable minimiza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mmon sub-expression identifica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Which are the basic variables that are used in basic block but come from outsi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4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Which are the variables that have been updated in current basic bloc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.</a:t>
            </a:r>
            <a:br>
              <a:rPr sz="28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Using DAG to get the above informa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xample: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1 = 4 * 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2 = a [ t1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3=4 * 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4 = b [ t3]            </a:t>
            </a:r>
            <a:r>
              <a:rPr b="0" lang="en-U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5 = t2 * t4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6 = prod + t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t7 = I +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 = t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If   I &lt;= 20 got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-1185480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-360"/>
            <a:ext cx="152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83348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891540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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eaves are variables coming from outsid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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mon sub-expressions are identifie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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l variables appeared in node other than   leaves are the variables updated he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dditional info – equivalence of variables  , which expressions are live can also be known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imes New Roman"/>
                <a:ea typeface="Times New Roman"/>
              </a:rPr>
              <a:t>Peep hole optimiz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ee small part of code at a time and fix easy “ BUGS 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1) MOV R0 , a                   2) goto L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OV a , R0                    L2 : goto L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X = X +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X = X *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09680" y="2895480"/>
            <a:ext cx="4496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6:00:28Z</dcterms:created>
  <dc:creator>SASANKA</dc:creator>
  <dc:description/>
  <dc:language>en-US</dc:language>
  <cp:lastModifiedBy>SASANKA</cp:lastModifiedBy>
  <dcterms:modified xsi:type="dcterms:W3CDTF">2006-11-22T16:23:04Z</dcterms:modified>
  <cp:revision>2</cp:revision>
  <dc:subject/>
  <dc:title>DAG and Peep hole optimization</dc:title>
</cp:coreProperties>
</file>