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E10-92D8-4B87-A56B-0C83169F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F00-2AA0-4824-A2ED-F8ECFAF9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AF5-1AB0-4CDB-AA87-52F9A3D4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2297-F99D-4D6B-AD91-EE7F2411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06C-1062-4975-8AD1-3F88A988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812-D8C1-4E2F-A4D6-C0FB7E43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0CB-4E29-4FB0-A6A3-C15C1D6C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E2C-526E-41CB-86C8-5DFFBF76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72D-0C55-4164-B052-953D5E2D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0D3-2E0D-4CB6-B366-A52E76EA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E37-C236-4173-8B17-9CE84D40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B06-4287-4ED6-9093-A8B61973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D16BEF-4F8D-42D9-A0C9-02F5CAE9BF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7240" y="1049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ree Address Code Generation Control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bin A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04CS3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 WHILE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3" marL="15840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=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=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=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VAR2=b+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=VAR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VAR3=a*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=VAR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VAR1=i&lt;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f(VAR1) goto L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oto L2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2: c=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le a &lt; b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c &lt; d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 y +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 y -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e the productions used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 -&gt; if E then S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 E.true = newlabe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false = S.next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1.next = S.next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code= E.code|| gen(E.true’:’)||S1.code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 -&gt; if E then S1 else 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E.true = newlabe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false = newlab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1.next = S.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.next = S.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code = E.code||gen(E.true’:’)||S1.code||gen(‘goto’S.next)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(E.false’:’)||S2.cod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 -&gt; while E do 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{S.begin = newlab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true = newlab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false = S.nex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1.next = S.begi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code = gen(S.begin’:’)||E.code||gen(E.true’:’)||S1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||gen(‘goto”S.begin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above rules and assignment statements we get the 3 address code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1: if a &lt; b goto 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to L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2: if c &lt; d goto L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to 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3: t1 = y +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4: t2 = y –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= 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nex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sic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asic idea of converting any flow of control statement to a three address code is to simulate the “branching” of the flow of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is is done by skipping to different parts of the code (label) to mimic the different flow of control bran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1120" y="1773360"/>
            <a:ext cx="822960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Flow of control statements may be converted to three address code by use of the following functions:-</a:t>
            </a:r>
            <a:br>
              <a:rPr sz="3200"/>
            </a:br>
            <a:br>
              <a:rPr sz="3200"/>
            </a:br>
            <a:r>
              <a:rPr b="0" i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ewlabel – returns a new symbolic label each time it is called.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gen () – “generates” the code (string) passed as a parameter to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ecial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ollowing attributes are associated with the non-terminals for the code generation:-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de – contains the generated three address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ue – contains the label to which a jump takes place if the Boolean expression associated (if any) evaluates to “tru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lse – contains the label to which a jump takes place if the Boolean expression (if any) associated evaluates to “fals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gin – contains the label / address pointing to the beginning of the code chunk for the statement “generated” (if any) by the non-termi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=3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=4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(i=0;i&lt;n;i++){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=b+1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=a*a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=a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=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=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1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AR1=i&lt;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(VAR1) goto L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oto L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4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oto L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2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AR2=b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=VAR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AR3=a*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=VAR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oto 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3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=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2" marL="11314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=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=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ile(i&lt;n)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=b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=a*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=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=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=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1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R1=i&lt;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(VAR1) goto L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to L3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2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R2=b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=VAR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R3=a*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=VAR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3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=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 WHILE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lvl="2" marL="11199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=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=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=b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=a*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while(i&lt;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=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hul</dc:creator>
  <dc:description/>
  <dc:language>en-US</dc:language>
  <cp:lastModifiedBy>rahul</cp:lastModifiedBy>
  <cp:revision>0</cp:revision>
  <dc:subject/>
  <dc:title>Three Address Code Generation - Control Statements</dc:title>
</cp:coreProperties>
</file>