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C614A-A653-4F88-87C6-CAE1B436C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274D-9FD5-401B-82EF-D2D6CC34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D6C0-3C26-46C9-A71D-60F27000B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8568A-0E64-4945-B94B-828EE4DCF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4D334-78A4-4926-9E9F-B07898FA3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FAFC4-B353-4790-A4CF-2F576C7FE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7F882-0983-43FF-9464-3CA698EC4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33CBD-3FE1-44CD-B414-C80A7F830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DFD85-A938-44E8-BC4E-698C6CCC8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CB8BD-6253-4D1C-9AF6-F95FCB157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3DCA6-EC7B-4167-9A6E-A3122105E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9D6D-731E-40E4-A54B-10DF40206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C0D7-FF7F-46CD-89D7-DA870ED8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606CB-8BA5-454E-B988-B1A70877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03D2A-6218-4DA3-B892-EA71A6666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7DA8F-111C-4F9F-9A39-0AB084222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C3653-8056-496E-9022-F01F06F52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0A25-2A9A-416E-A270-7BF2BA35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0BE77-2575-402F-9937-0B5FDDD31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DC02-8B99-4E44-A0EE-79092205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B6CC3-4B9F-4E27-A316-0FE2264F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6351-106F-432F-AD46-3B4B663C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6C9B-ACB7-42E6-907F-33E048AB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CDD8-7D79-4563-B6AD-15D5A174F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789C-E51B-4B9C-AA35-3E35F9607ABC}" type="slidenum">
              <a:rPr b="0" lang="ar-SA" sz="1200" spc="-1" strike="noStrike">
                <a:solidFill>
                  <a:srgbClr val="000000"/>
                </a:solidFill>
                <a:latin typeface="Verdana"/>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F8FA-1A4D-48AE-82D2-0A475BCD78B5}" type="slidenum">
              <a:rPr b="0" lang="ar-SA" sz="1200" spc="-1" strike="noStrike">
                <a:solidFill>
                  <a:srgbClr val="000000"/>
                </a:solidFill>
                <a:latin typeface="Verdana"/>
                <a:ea typeface="Arial"/>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cweb.iitkgp.ernet.in/~niloy/COURSE/Autumn2006/Compiler/main.html#Lecture"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1" i="1" lang="en-US" sz="3600" spc="-1" strike="noStrike">
                <a:solidFill>
                  <a:srgbClr val="003399"/>
                </a:solidFill>
                <a:latin typeface="Verdana"/>
              </a:rPr>
              <a:t>TARGET CODE GENERATION</a:t>
            </a:r>
            <a:endParaRPr b="0" lang="en-US" sz="3600" spc="-1" strike="noStrike">
              <a:solidFill>
                <a:srgbClr val="000000"/>
              </a:solidFill>
              <a:latin typeface="Verdana"/>
            </a:endParaRPr>
          </a:p>
        </p:txBody>
      </p:sp>
      <p:sp>
        <p:nvSpPr>
          <p:cNvPr id="85" name="PlaceHolder 2"/>
          <p:cNvSpPr>
            <a:spLocks noGrp="1"/>
          </p:cNvSpPr>
          <p:nvPr>
            <p:ph type="subTitle"/>
          </p:nvPr>
        </p:nvSpPr>
        <p:spPr>
          <a:xfrm>
            <a:off x="457200" y="4876920"/>
            <a:ext cx="640080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80"/>
                </a:solidFill>
                <a:latin typeface="Verdana"/>
              </a:rPr>
              <a:t>Prepared B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80"/>
                </a:solidFill>
                <a:latin typeface="Verdana"/>
              </a:rPr>
              <a:t>DHEERAJ KUMAR JAIN-04CS3015</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BASIC BLOCKS</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s.</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   location = -1 </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2.   i=0</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3.   if (i&lt;100) goto 5</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4.   goto 13</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5.   t1 = 4*1</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6.   t2 = A[t1]</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7.   if t2 = x goto 9</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8.   goto 10</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9.   location = i</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0.  t3 = i+1</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1.  i = t3</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2. goto 3</a:t>
            </a:r>
            <a:endParaRPr b="0" lang="en-US" sz="1700" spc="-1" strike="noStrike">
              <a:solidFill>
                <a:srgbClr val="000000"/>
              </a:solidFill>
              <a:latin typeface="Verdana"/>
            </a:endParaRPr>
          </a:p>
          <a:p>
            <a:pPr marL="5716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13.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BASIC BLOCKS</a:t>
            </a:r>
            <a:endParaRPr b="0" lang="en-US" sz="3400" spc="-1" strike="noStrike">
              <a:solidFill>
                <a:srgbClr val="000000"/>
              </a:solidFill>
              <a:latin typeface="Verdana"/>
            </a:endParaRPr>
          </a:p>
        </p:txBody>
      </p:sp>
      <p:sp>
        <p:nvSpPr>
          <p:cNvPr id="105"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s : 1,3,4,5,8,9,10,1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 Blocks ar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1 = 1,2</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2 = 3</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3 = 4</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4 = 5,6,7</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5 = 8</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6 = 9</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7 = 10 , 11 , 12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8 = 13</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BASIC BLOCKS</a:t>
            </a:r>
            <a:endParaRPr b="0" lang="en-US" sz="3400" spc="-1" strike="noStrike">
              <a:solidFill>
                <a:srgbClr val="000000"/>
              </a:solidFill>
              <a:latin typeface="Verdana"/>
            </a:endParaRPr>
          </a:p>
        </p:txBody>
      </p:sp>
      <p:pic>
        <p:nvPicPr>
          <p:cNvPr id="107" name="" descr=""/>
          <p:cNvPicPr/>
          <p:nvPr/>
        </p:nvPicPr>
        <p:blipFill>
          <a:blip r:embed="rId2"/>
          <a:stretch/>
        </p:blipFill>
        <p:spPr>
          <a:xfrm>
            <a:off x="609480" y="1828800"/>
            <a:ext cx="830592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3160" y="2285640"/>
            <a:ext cx="8001000" cy="426708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a:t>
            </a:r>
            <a:endParaRPr b="0" lang="en-US" sz="30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1600" spc="-1" strike="noStrike" u="sng">
                <a:solidFill>
                  <a:srgbClr val="336699"/>
                </a:solidFill>
                <a:uFillTx/>
                <a:latin typeface="Verdana"/>
                <a:hlinkClick r:id="rId2"/>
              </a:rPr>
              <a:t>http://www.facweb.iitkgp.ernet.in/~niloy/COURSE/Autumn2006/Compiler/main.html#Lectur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RODUCTION</a:t>
            </a:r>
            <a:endParaRPr b="0" lang="en-US" sz="3800" spc="-1" strike="noStrike">
              <a:solidFill>
                <a:srgbClr val="000000"/>
              </a:solidFill>
              <a:latin typeface="Verdana"/>
            </a:endParaRPr>
          </a:p>
        </p:txBody>
      </p:sp>
      <p:pic>
        <p:nvPicPr>
          <p:cNvPr id="87" name="" descr=""/>
          <p:cNvPicPr/>
          <p:nvPr/>
        </p:nvPicPr>
        <p:blipFill>
          <a:blip r:embed="rId2"/>
          <a:stretch/>
        </p:blipFill>
        <p:spPr>
          <a:xfrm>
            <a:off x="2057400" y="1676520"/>
            <a:ext cx="5181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CTORS EFFECTING THE GENERATION OF TARGET CODE</a:t>
            </a:r>
            <a:endParaRPr b="0" lang="en-US" sz="32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m of Input-How Complex/Simple is the IM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bsolute code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catable cod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ardware facility to do the translation</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mpiler book marking</a:t>
            </a: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sembly cod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embl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CTORS EFFECTING THE GENERATION OF TARGET CODE</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ynamicity </a:t>
            </a:r>
            <a:endParaRPr b="0" lang="en-US" sz="2600" spc="-1" strike="noStrike">
              <a:solidFill>
                <a:srgbClr val="000000"/>
              </a:solidFill>
              <a:latin typeface="Verdana"/>
            </a:endParaRPr>
          </a:p>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k independent</a:t>
            </a:r>
            <a:endParaRPr b="0" lang="en-US" sz="2600" spc="-1" strike="noStrike">
              <a:solidFill>
                <a:srgbClr val="000000"/>
              </a:solidFill>
              <a:latin typeface="Verdana"/>
            </a:endParaRPr>
          </a:p>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still readable </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ntermediate code </a:t>
            </a:r>
            <a:r>
              <a:rPr b="0" lang="en-US" sz="2600" spc="-1" strike="noStrike">
                <a:solidFill>
                  <a:srgbClr val="000000"/>
                </a:solidFill>
                <a:latin typeface="Wingdings"/>
                <a:ea typeface="Wingdings"/>
              </a:rPr>
              <a:t></a:t>
            </a:r>
            <a:r>
              <a:rPr b="0" lang="en-US" sz="2600" spc="-1" strike="noStrike">
                <a:solidFill>
                  <a:srgbClr val="000000"/>
                </a:solidFill>
                <a:latin typeface="Verdana"/>
              </a:rPr>
              <a:t> Target Code</a:t>
            </a:r>
            <a:endParaRPr b="0" lang="en-US" sz="2600" spc="-1" strike="noStrike">
              <a:solidFill>
                <a:srgbClr val="000000"/>
              </a:solidFill>
              <a:latin typeface="Verdana"/>
            </a:endParaRPr>
          </a:p>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ruction selection : For each type of three address statement, we can design a code skeleton that outlines the target code to be generated for that constru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CTORS EFFECTING THE GENERATION OF TARGET CODE</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Eg.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x=y+z </a:t>
            </a:r>
            <a:r>
              <a:rPr b="0" lang="en-US" sz="2100" spc="-1" strike="noStrike">
                <a:solidFill>
                  <a:srgbClr val="000000"/>
                </a:solidFill>
                <a:latin typeface="Wingdings"/>
                <a:ea typeface="Wingdings"/>
              </a:rPr>
              <a:t></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ov R1, y               #y -&gt; R1</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ov R2, z               #z -&gt; R2</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DD R2, R1            #R2+R1-&gt;R2</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ov x, R2              #R2-&gt;x</a:t>
            </a: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OR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ov R1,z               # z-&gt;R1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DD R1,y              #R1+y-&gt;R1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mov x,R1              #R1-&gt;x</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CTORS EFFECTING THE GENERATION OF TARGET COD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er allocation : Instructions involving register operands are usually shorter and faster than those involving operands in memory. Therefore, efficient utilization of registers is particularly important in generating good code. The use of registers is often subdivided into two sub problems:</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1. During register allocation, we select the set of variables that will reside in registers at a point in the progra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CTORS EFFECTING THE GENERATION OF TARGET CODE</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2.During a subsequent register assignment phase, we pick the specific register that a variable will reside in.</a:t>
            </a:r>
            <a:endParaRPr b="0" lang="en-US" sz="2600" spc="-1" strike="noStrike">
              <a:solidFill>
                <a:srgbClr val="000000"/>
              </a:solidFill>
              <a:latin typeface="Verdana"/>
            </a:endParaRPr>
          </a:p>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ion order </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f(a&gt;b) goto L1        if(a&lt;=b) goto L2 </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goto L2                    L1:</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1:             = =      L2:</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2:</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BASIC BLOCKS</a:t>
            </a:r>
            <a:endParaRPr b="0" lang="en-US" sz="3800" spc="-1" strike="noStrike">
              <a:solidFill>
                <a:srgbClr val="000000"/>
              </a:solidFill>
              <a:latin typeface="Verdana"/>
            </a:endParaRPr>
          </a:p>
        </p:txBody>
      </p:sp>
      <p:sp>
        <p:nvSpPr>
          <p:cNvPr id="99" name="PlaceHolder 2"/>
          <p:cNvSpPr>
            <a:spLocks noGrp="1"/>
          </p:cNvSpPr>
          <p:nvPr>
            <p:ph/>
          </p:nvPr>
        </p:nvSpPr>
        <p:spPr>
          <a:xfrm>
            <a:off x="761760" y="1676160"/>
            <a:ext cx="7543800" cy="4267080"/>
          </a:xfrm>
          <a:prstGeom prst="rect">
            <a:avLst/>
          </a:prstGeom>
          <a:noFill/>
          <a:ln w="0">
            <a:noFill/>
          </a:ln>
        </p:spPr>
        <p:txBody>
          <a:bodyPr lIns="90000" rIns="90000" tIns="46800" bIns="46800" anchor="t">
            <a:normAutofit/>
          </a:bodyPr>
          <a:p>
            <a:pPr marL="571680" indent="-571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DENTIFYING BASIC</a:t>
            </a:r>
            <a:r>
              <a:rPr b="0" lang="en-US" sz="2600" spc="-1" strike="noStrike">
                <a:solidFill>
                  <a:srgbClr val="000000"/>
                </a:solidFill>
                <a:latin typeface="Verdana"/>
              </a:rPr>
              <a:t> </a:t>
            </a:r>
            <a:r>
              <a:rPr b="1" lang="en-US" sz="2600" spc="-1" strike="noStrike">
                <a:solidFill>
                  <a:srgbClr val="000000"/>
                </a:solidFill>
                <a:latin typeface="Verdana"/>
              </a:rPr>
              <a:t>BLOCKS</a:t>
            </a:r>
            <a:r>
              <a:rPr b="0" lang="en-US" sz="2600" spc="-1" strike="noStrike">
                <a:solidFill>
                  <a:srgbClr val="000000"/>
                </a:solidFill>
                <a:latin typeface="Verdana"/>
              </a:rPr>
              <a:t>:A basic block is a sequence of consecutive statements in which flow of control enters at the beginning and leaves at the end without halt or possibility of branching except at the end. </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1.  We first determine the set of leaders, the first statements of basic blocks. The rules we use are the following</a:t>
            </a:r>
            <a:r>
              <a:rPr b="1" lang="en-US" sz="2600" spc="-1" strike="noStrike">
                <a:solidFill>
                  <a:srgbClr val="000000"/>
                </a:solidFill>
                <a:latin typeface="Verdana"/>
              </a:rPr>
              <a:t> :</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BASIC BLOCKS</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 The first statement is a leader.</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I) Any statement that is the target of a          conditional or unconditional goto is a leader.</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II) Any statement that immediately follows a goto or conditional goto statement is a leader.</a:t>
            </a:r>
            <a:endParaRPr b="0" lang="en-US" sz="2600" spc="-1" strike="noStrike">
              <a:solidFill>
                <a:srgbClr val="000000"/>
              </a:solidFill>
              <a:latin typeface="Verdana"/>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2.For each leader, its basic block consists of the leader and all statements up to but not including the next leader or the end of the progra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yptian hak</cp:lastModifiedBy>
  <dcterms:modified xsi:type="dcterms:W3CDTF">2006-11-16T22:12:1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