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72503C-898D-43BA-99C0-B8B40928F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AC1F6-1F20-4CFA-A44D-F37E8B794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F4B15A-4995-4728-ABBD-D286EC5CC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78FDC5-2E0F-412A-A241-DA6201F4C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4F2C5-B145-4AE8-A34A-1C1D3D597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9CEAE-63AD-45CB-A185-0B206A726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077DE-8E2C-4C6C-8377-88EA6FEAC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28DAE-6F1C-4854-B278-D8E98EAE2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DC3F3-09EB-4616-9CA8-5B1A3F080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649B4-02E4-437D-9AAA-A6BB947CA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FD379-3738-4EA1-85E7-254FCDAFC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DAE35D-7CDD-4CC2-9332-917CCC97F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F28A1-CAA5-492A-9711-22DBFCDBE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96244-EAC5-4D7B-A693-A548ADEB0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D4BFA-7A0B-4018-B72F-868868F96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257A7-6D95-4B6B-9730-B207745B3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13186-C6A2-48F7-BBCA-5AF700502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2EA285-39B1-49DB-B06E-14CC835B8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2779E3-12BC-4840-998E-F2C998D07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F2694E-2988-46DA-8ED5-327E518E8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304B82-E135-4B55-8D5E-B583CCFBF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E9635B-E56D-4BE3-90AA-DC0B8AD40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DC3878-E562-4CAB-A7E6-B64386AEE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9DA658-672F-4184-8047-A8285F565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BF2E8-A89C-4766-ACDA-259B6F6A686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AB7E7-A274-4E11-98FD-07D97D20F1C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What is Three Address Code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statement of the form x = y op z is a three address statement. x, y and z here are the three operands and op is any logical or arithmetic operato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ere three address refers to the three addresses in the statement viz addresses of x , y and z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ay for example we have a statement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= b + c * d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n three address code for this statement is :-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1 = c * 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= b + t1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ypes :-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re are different types of three address statements. Some of them are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ssignment statements. They are of the form x := y op z where op is a binary arithmetic or logical operatio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ssignment Instructions. They are of the form x := op y where op is an unary operation like unary plus, unary minus shift etc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py statements. They are of the form x := y where the value of y is assigned to x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nconditional Jump goto L. The three address statement with label L is the next to be executed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nditional Jumps such as if x relop y goto L. This instruction applies a relational operator (&lt;,&gt;,&lt;=,&gt;=) to x and y and executes the statement with label L if the conditional statement is satisfied. Else the statement following if x relop y goto L is executed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aram x and call p,n for procedure calls and return y where y representing a returned value (optional).Three Address statements for it are as follows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aram x1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aram x2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aram x3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aram xn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all p,n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generated as a part of the three address code for call of the procedure p(x1,x2,x3,....xn) where n are the number of variables being sent to the procedure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tructure for Three Address Co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t is a quadruple of an operator, arg1 , arg2 and a result or it is a triple of an operator , arg1 and arg2. In triple form arg2 is generally a pointer to the triple structur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hree Address Code Gener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uppose we have the grammar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 -&gt;id := E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 -&gt; E+E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 -&gt; E*E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 -&gt; - E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 -&gt; (E)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 -&gt; id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n the three address code for this grammar can be written as:-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219320" y="1905120"/>
            <a:ext cx="5959440" cy="45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228240" y="144756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1 refers to the first E that comes in the production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2 refers to the second E that comes in the production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ere E.code stands for the three address code generated by E and E.place stands for the variable name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31T18:53:02Z</dcterms:created>
  <dc:creator>Swapandeep Singh</dc:creator>
  <dc:description/>
  <dc:language>en-US</dc:language>
  <cp:lastModifiedBy>Swapandeep Singh</cp:lastModifiedBy>
  <dcterms:modified xsi:type="dcterms:W3CDTF">2006-10-31T19:15:48Z</dcterms:modified>
  <cp:revision>3</cp:revision>
  <dc:subject/>
  <dc:title>What is Three Address Code?</dc:title>
</cp:coreProperties>
</file>