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C37F-D2E0-4BCD-81BA-639FF7355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5A7A-4BD5-46BC-A87C-FC4268CC7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F101-39D1-40E4-B13C-40ED9AE15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E0AD-C427-4A02-8158-52CB5DE60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19D9-1F77-475A-AC0F-EB3A0009A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859C-DE24-418B-A497-D86FDA879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50B7-6B83-4BD4-9A7C-C6038CBE1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EFA0-05BC-4479-9182-AB517AE3E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A241-B0B0-46BB-8B48-7E36C9F02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AAC0-82B6-4F0C-83B7-CA9BF987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4238-C005-4D9D-B730-A3FBB69D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8733-2555-43AF-B5B5-C98DFE9AD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C492A-F088-414F-94DF-508E643BCE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6520" y="232200"/>
            <a:ext cx="8448480" cy="32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R Pars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R parsing is a bottom up syntax analysis technique that can be applied to a l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lass of context free grammars. L is for left –to –right scanning of the input and 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or constructing rightmost derivation in reve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l Framewor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t x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… … … x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be the string to be parsed by LR parsing meth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 configuration of an LR parser is a pair whose first component is the stack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hose second component is the unexpended part of the input str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+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… … Y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+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x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… … x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920" y="5257080"/>
            <a:ext cx="40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0……… |Yjsi+k xpsi+k*|xp+1… … x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3923640"/>
            <a:ext cx="551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 which is already       part of the input str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ed for pars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2320" y="495216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f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64240" y="3471120"/>
            <a:ext cx="31194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            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83040" y="593280"/>
            <a:ext cx="823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: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goto (Ii, A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n entry in graph, wherea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to[i, A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correspon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ry in parsing table 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7800" y="1371240"/>
            <a:ext cx="7671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 the initial state of the parser is one constructed from the set of  ite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in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[S’-&gt; .S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7800" y="2056680"/>
            <a:ext cx="580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, the Parsing table for the grammar comes out to b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6640" y="2513880"/>
            <a:ext cx="494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this we go ahead with the parsing a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7000" y="2895120"/>
            <a:ext cx="77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grammar having a SLR parsing table is said to be a SLR grammar, an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has a lookahead of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919440" y="306000"/>
            <a:ext cx="6549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ave a noteworthy point in the grammar we just now us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ave the starting production  as    S’-&gt; S and then S h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s own  set of  productions .   Intuitively, we see  that , t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ises no need for the  extra production rule S’-&gt; S and  thi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le might be treated as a dummy rule. We could  always 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way with S’ and have S as the start state. However, clo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pection brings to light on the fact that, while staring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ing, we may not have any problem, but on mak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tion to start state (remember we are parsing bottom up!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might just end up having reduce conflicts. So, a need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a ‘one-level’ higher hierarchy is necessitatedand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d by the rule S’-&gt; S, whenever the start state 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multiple produ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96840" y="4266720"/>
            <a:ext cx="634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now look into the problems underlying the SLR gramma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move onto greener pastures  where we could possibly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e up with these proble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28600" y="22788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 with SLR  pars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80" y="839160"/>
            <a:ext cx="8978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LR parser discussed in the earlier class has certain flaw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state may include a final item (one in which the position marker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end) and  a non-   final item. This is called a shift-reduce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state may include two different final items. This is called a reduce-reduce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we have reduce-reduce conflicts in unambiguous grammar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we have a shift-shift conflict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 SLR reduces only when the next token is in Follow of the left-h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de of the production. Such choices may help to resolve reduce-reduce confli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still similar conflicts exis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Shift-reduce conflicts include the case in which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low of the final lhs of the final item overlaps with first of the remaind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Reduce-reduce conflicts include the case Follow of both left-hand-sides overlap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6400" y="4572000"/>
            <a:ext cx="3149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us consider the gramm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-&gt;E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&gt;L=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&gt;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-&gt;*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-&gt;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-&gt;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08160" y="305280"/>
            <a:ext cx="2730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the two items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o={S-&gt;.E$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&gt;.L=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&gt;.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-&gt;.*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-&gt;.i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-&gt;.L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1= {E-&gt;L. =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-&gt;L.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304740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low(R) = {$, =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800" y="3656880"/>
            <a:ext cx="84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in the Parsing table we have the following conflict when the follow ‘=’ appea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28840" y="4190760"/>
            <a:ext cx="597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.…..……………………………………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….     …..    ‘=’  …..   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1     ….     …..  s2/r6 …..   …….     -&gt; shift reduce confl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7320" y="5409720"/>
            <a:ext cx="864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such a case we break up the item into separate parts. Here the two items will b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E-&gt;L. =R, $} and {R-&gt;L., =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15000" y="304920"/>
            <a:ext cx="6354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general terms, we have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1-&gt;alpha1           A1-&gt;alpha1, Follow (A1)      Product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2-&gt;alpha2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A2-&gt;alpha2, Follow (A2)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Follow (A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3-&gt;alpha3           A3-&gt;alpha3, Follow (A3)       ele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se there are ‘k’ items in the SL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item has ‘p’ r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follow has N ele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4840" y="2514240"/>
            <a:ext cx="413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se there are ‘k’ items in the SL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item has ‘p’ r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follow has N ele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0080" y="3580920"/>
            <a:ext cx="593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the total number of items after separation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*POW (N, P). Even if we have one step look ahead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ity will be exponential!!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089480" y="60192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umar Ash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4CS1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1362960" y="520920"/>
            <a:ext cx="4997160" cy="4092480"/>
            <a:chOff x="1362960" y="520920"/>
            <a:chExt cx="4997160" cy="4092480"/>
          </a:xfrm>
        </p:grpSpPr>
        <p:sp>
          <p:nvSpPr>
            <p:cNvPr id="47" name=""/>
            <p:cNvSpPr/>
            <p:nvPr/>
          </p:nvSpPr>
          <p:spPr>
            <a:xfrm>
              <a:off x="3398760" y="1104840"/>
              <a:ext cx="2961360" cy="2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953880" y="1104840"/>
              <a:ext cx="1080" cy="29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1640" y="1104840"/>
              <a:ext cx="72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7960" y="1104840"/>
              <a:ext cx="1080" cy="29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774400" y="1104840"/>
              <a:ext cx="1080" cy="29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 rot="16200000">
              <a:off x="1873080" y="2566800"/>
              <a:ext cx="2046600" cy="2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 flipV="1">
              <a:off x="2750760" y="2128680"/>
              <a:ext cx="2912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 flipV="1">
              <a:off x="2750760" y="2712240"/>
              <a:ext cx="291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 flipV="1">
              <a:off x="2750760" y="3297960"/>
              <a:ext cx="29124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688480" y="4175640"/>
              <a:ext cx="925920" cy="43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755960" y="520920"/>
              <a:ext cx="433080" cy="438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33720" y="1982520"/>
              <a:ext cx="246600" cy="1753920"/>
            </a:xfrm>
            <a:custGeom>
              <a:avLst/>
              <a:gdLst>
                <a:gd name="textAreaLeft" fmla="*/ 157680 w 246600"/>
                <a:gd name="textAreaRight" fmla="*/ 246960 w 246600"/>
                <a:gd name="textAreaTop" fmla="*/ 45720 h 1753920"/>
                <a:gd name="textAreaBottom" fmla="*/ 1708200 h 1753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362960" y="2712600"/>
              <a:ext cx="430920" cy="438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915120" y="5333400"/>
            <a:ext cx="402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f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0……… |Yjsi+k xpsi+k*|xp+1… … x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92520" y="6247800"/>
            <a:ext cx="21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ablete from the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80880" y="1004400"/>
            <a:ext cx="56390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u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s0………..si+gA] xp… … x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 A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α,    | α | =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 2*| N | elements including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sh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 a stat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s0………..si+gAs] xp… … x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the following gramm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S’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S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A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A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A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 B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2960" y="5637960"/>
            <a:ext cx="70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 for parsing action and goto function for the given grammar is: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1123920" y="187200"/>
          <a:ext cx="6896160" cy="272880"/>
        </p:xfrm>
        <a:graphic>
          <a:graphicData uri="http://schemas.openxmlformats.org/drawingml/2006/table">
            <a:tbl>
              <a:tblPr/>
              <a:tblGrid>
                <a:gridCol w="714240"/>
                <a:gridCol w="4276800"/>
                <a:gridCol w="190512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o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1123920" y="460440"/>
          <a:ext cx="6894360" cy="6210360"/>
        </p:xfrm>
        <a:graphic>
          <a:graphicData uri="http://schemas.openxmlformats.org/drawingml/2006/table">
            <a:tbl>
              <a:tblPr/>
              <a:tblGrid>
                <a:gridCol w="712800"/>
                <a:gridCol w="712800"/>
                <a:gridCol w="712800"/>
                <a:gridCol w="712800"/>
                <a:gridCol w="712800"/>
                <a:gridCol w="712800"/>
                <a:gridCol w="712800"/>
                <a:gridCol w="635040"/>
                <a:gridCol w="635040"/>
                <a:gridCol w="63468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31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28600" y="1981080"/>
          <a:ext cx="6419880" cy="579600"/>
        </p:xfrm>
        <a:graphic>
          <a:graphicData uri="http://schemas.openxmlformats.org/drawingml/2006/table">
            <a:tbl>
              <a:tblPr/>
              <a:tblGrid>
                <a:gridCol w="2139840"/>
                <a:gridCol w="2140200"/>
                <a:gridCol w="21398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p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bcbcde$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hif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228600" y="2590920"/>
          <a:ext cx="6419880" cy="3568680"/>
        </p:xfrm>
        <a:graphic>
          <a:graphicData uri="http://schemas.openxmlformats.org/drawingml/2006/table">
            <a:tbl>
              <a:tblPr/>
              <a:tblGrid>
                <a:gridCol w="2139840"/>
                <a:gridCol w="2140200"/>
                <a:gridCol w="21398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a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bcbcde$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hif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a2b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cbcde$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a2A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cbcde$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hif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a2A3b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bcde$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hif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a2A3b6c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cde$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Ab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A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cde$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hif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A3b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e$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hif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a2A3b6c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$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Ab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a2A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$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hif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a2A3d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$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a2A3B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$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hif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a2A3B5e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aAB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S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cep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"/>
          <p:cNvSpPr/>
          <p:nvPr/>
        </p:nvSpPr>
        <p:spPr>
          <a:xfrm>
            <a:off x="233640" y="304920"/>
            <a:ext cx="477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ans reduce by production numbere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ans ac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ans shift and stack stat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blank means err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46240" y="6247800"/>
            <a:ext cx="41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ves of LR pars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600" y="2880"/>
            <a:ext cx="88128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ing the Parsing ab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It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te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a gramma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production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th a dot at some position of the right s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duc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i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XY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s the following four i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.XY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X.Y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Z </a:t>
            </a:r>
            <a:r>
              <a:rPr b="1" i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XY.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XY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. Item closur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f A </a:t>
            </a:r>
            <a:r>
              <a:rPr b="1" i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X.Y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longs t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i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n add Y </a:t>
            </a:r>
            <a:r>
              <a:rPr b="1" i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.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tem closure for the above ex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0 = {[S’ </a:t>
            </a:r>
            <a:r>
              <a:rPr b="1" i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.S], [S </a:t>
            </a:r>
            <a:r>
              <a:rPr b="1" i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.aABe]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1 = {S’ </a:t>
            </a:r>
            <a:r>
              <a:rPr b="1" i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S.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2 = {S </a:t>
            </a:r>
            <a:r>
              <a:rPr b="1" i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a.ABe, A </a:t>
            </a:r>
            <a:r>
              <a:rPr b="1" i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.Abc, A </a:t>
            </a:r>
            <a:r>
              <a:rPr b="1" i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.b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3 = {S </a:t>
            </a:r>
            <a:r>
              <a:rPr b="1" i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aA.Be, A </a:t>
            </a:r>
            <a:r>
              <a:rPr b="1" i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A.bc, B </a:t>
            </a:r>
            <a:r>
              <a:rPr b="1" i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.d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4 = {A </a:t>
            </a:r>
            <a:r>
              <a:rPr b="1" i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b.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5 = {S </a:t>
            </a:r>
            <a:r>
              <a:rPr b="1" i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aAB.e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6 = {A </a:t>
            </a:r>
            <a:r>
              <a:rPr b="1" i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Ab.c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7 = {B </a:t>
            </a:r>
            <a:r>
              <a:rPr b="1" i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d.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8 = {S </a:t>
            </a:r>
            <a:r>
              <a:rPr b="1" i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aABe.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9 = {A </a:t>
            </a:r>
            <a:r>
              <a:rPr b="1" i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Abc.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33280" y="457920"/>
            <a:ext cx="81118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ucting the GOTO graph from the LR(0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e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BOVE deriv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Enlist all the collection of Items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 (I0, I1,…..)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Put all the transitions in the between the Items in he GOTO grap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les for putting the label on the transi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re is a transition fro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-&gt;α . Xβ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-&gt; αX . 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, the transition in the GOTO Graph is labele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 there is a transi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-&gt; α  . B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t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B-&gt; .γ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, the transition is label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ε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since we tak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closure of all Items, th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tions lie in the same item as that 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-&gt;α . Bβ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-&gt; αB . 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978480" y="1066680"/>
            <a:ext cx="7403040" cy="5549040"/>
            <a:chOff x="978480" y="1066680"/>
            <a:chExt cx="7403040" cy="5549040"/>
          </a:xfrm>
        </p:grpSpPr>
        <p:sp>
          <p:nvSpPr>
            <p:cNvPr id="74" name=""/>
            <p:cNvSpPr/>
            <p:nvPr/>
          </p:nvSpPr>
          <p:spPr>
            <a:xfrm>
              <a:off x="1121040" y="1066680"/>
              <a:ext cx="1423440" cy="972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0200" rIns="702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’-&gt; .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-&gt;.aAB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978480" y="2624040"/>
              <a:ext cx="1423440" cy="973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0200" rIns="702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’ -&gt; S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69760" y="1163520"/>
              <a:ext cx="1566000" cy="1071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0200" rIns="702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-&gt; a.Ab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A-&gt;.Ab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A-&gt;.b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256560" y="2721960"/>
              <a:ext cx="1850760" cy="1264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0200" rIns="702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-&gt;aA.B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A-&gt;A.b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B-&gt;.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961600" y="1747800"/>
              <a:ext cx="1281240" cy="876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0200" rIns="702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A -&gt; b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534280" y="3597480"/>
              <a:ext cx="1566000" cy="1069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0200" rIns="702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-&gt;aAB.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5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58080" y="2721960"/>
              <a:ext cx="1423440" cy="971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0200" rIns="702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-&gt;aABe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968280" y="4473720"/>
              <a:ext cx="1423440" cy="973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0200" rIns="702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B-&gt;d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832760" y="5739480"/>
              <a:ext cx="1281240" cy="876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0200" rIns="702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A-&gt;Abc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121040" y="4083840"/>
              <a:ext cx="1423440" cy="973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0200" rIns="702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A-&gt;Ab.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1690200" y="2039400"/>
              <a:ext cx="142200" cy="58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544840" y="1553400"/>
              <a:ext cx="996480" cy="9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253040" y="2234880"/>
              <a:ext cx="720" cy="48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07320" y="1845720"/>
              <a:ext cx="853920" cy="19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107320" y="3597480"/>
              <a:ext cx="569160" cy="19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6815520" y="3500280"/>
              <a:ext cx="284400" cy="19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2259720" y="3693960"/>
              <a:ext cx="1138680" cy="48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395600" y="3987360"/>
              <a:ext cx="142200" cy="48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975320" y="5058000"/>
              <a:ext cx="426960" cy="68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18360" y="1221120"/>
              <a:ext cx="573120" cy="30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1600" rIns="111600" tIns="55800" bIns="55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048680" y="2148480"/>
              <a:ext cx="477360" cy="30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1600" rIns="111600" tIns="55800" bIns="55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295240" y="1530000"/>
              <a:ext cx="524880" cy="30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1600" rIns="111600" tIns="55800" bIns="55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387680" y="2345760"/>
              <a:ext cx="525600" cy="26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1600" rIns="111600" tIns="55800" bIns="55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247720" y="3229560"/>
              <a:ext cx="524520" cy="30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1600" rIns="111600" tIns="55800" bIns="55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345000" y="2920680"/>
              <a:ext cx="524880" cy="46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1600" rIns="111600" tIns="55800" bIns="55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384280" y="3384360"/>
              <a:ext cx="573120" cy="463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1600" rIns="111600" tIns="55800" bIns="55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241720" y="5239080"/>
              <a:ext cx="476280" cy="30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1600" rIns="111600" tIns="55800" bIns="55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720600" y="4156920"/>
              <a:ext cx="572040" cy="30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1600" rIns="111600" tIns="55800" bIns="55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610560" y="304200"/>
            <a:ext cx="45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OTO Graph for the given gramm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-1080" y="610560"/>
            <a:ext cx="8885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GOTO Graph we now start filling the Parsing table for the SLR (simple LR)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r, Which contains State i as the row index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s the vertic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umn inde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ules for filling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ries in the table 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I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 A-&gt; α .a β 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i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o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 Ii , a ) =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I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n se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i ,a] to “shift j “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ust be a termi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I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A-&gt; α .]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i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n se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i , a ] to “reduce A -&gt; α “ for all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FOLLOW (A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e  A may not be in S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I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 S’-&gt; S.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i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n se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[I, $] to accep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ny conflicting actions are generated by the given rules, then we s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mmar is not in SLR or LR (0) and we fail to produce a pars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33480" y="4130280"/>
            <a:ext cx="905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then fill the  goto entr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oto transitions for the  state i are  constructed for all the non-terminals A using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oto( Ii, A 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I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, the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to [i , A ] = 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3T16:06:21Z</dcterms:created>
  <dc:creator>Ashish</dc:creator>
  <dc:description/>
  <dc:language>en-US</dc:language>
  <cp:lastModifiedBy>Ashish</cp:lastModifiedBy>
  <dcterms:modified xsi:type="dcterms:W3CDTF">2006-09-13T17:11:47Z</dcterms:modified>
  <cp:revision>9</cp:revision>
  <dc:subject/>
  <dc:title>Slide 1</dc:title>
</cp:coreProperties>
</file>