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781-0AA3-4AC9-8611-1440F7DE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6A5-430F-421E-8B1D-F3D6F677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C77-30E3-4988-9186-DF139C06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F1E6-CE40-4A02-AFF6-FFCFB629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245-1361-4FB2-BABC-0B7EAA92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73C-9E4C-4A93-BFC7-831E7F6B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786-F145-4C0F-981A-6741A45D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696-B38A-4B3F-8E2D-5A2CBC14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315-156F-4F8E-8C67-B85EC661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A0B-BCBE-49D3-A9D5-391CC7B5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8C81-FC9D-4655-B3B6-EBAB09E3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C54-CD45-46B6-B7BE-0A18482E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F34F-3B59-497E-82C3-5400DF802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1680" y="157320"/>
            <a:ext cx="85392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2760" y="771480"/>
            <a:ext cx="817848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040" y="912960"/>
            <a:ext cx="7818480" cy="50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97040" y="1397160"/>
            <a:ext cx="574848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108840" cy="26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7400" y="4097160"/>
            <a:ext cx="790920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9720" y="384120"/>
            <a:ext cx="84045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2:41:27Z</dcterms:created>
  <dc:creator>tiwana</dc:creator>
  <dc:description/>
  <dc:language>en-US</dc:language>
  <cp:lastModifiedBy>tiwana</cp:lastModifiedBy>
  <dcterms:modified xsi:type="dcterms:W3CDTF">2006-10-30T22:44:21Z</dcterms:modified>
  <cp:revision>1</cp:revision>
  <dc:subject/>
  <dc:title>Slide 1</dc:title>
</cp:coreProperties>
</file>