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97D-B20F-420C-99C7-DD8708F7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1FE-9FFA-4534-86B2-6D78BB43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986-C5E0-46E7-BF4D-D49B13E3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47E-2153-498A-B138-F497E304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410-F56F-4913-B752-AC654D8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32F-0FD5-4452-A086-6E134F7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C9A-44E4-40D4-825A-F46A19E2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D2E-E229-4593-9EB2-ABF7951C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53F-8A3A-4B62-AE6A-F394553F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F8E-6C32-495A-B09D-3E7201B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734-1ED4-4076-8F69-4E4E00E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4BD-7F8C-41A6-B3CE-1EAA7E9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04F5-4ECA-413B-9CEE-F106DA033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pson Co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Prepar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Anupam Prak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04CS1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ET CONSTRU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CONVERTING NFA TO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converting an NFA to an equivalent DF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NFA be N and its start state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construct the equivalent DFA D.The transition table is D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state represents the states of the DF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itially e-closure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is the only state in D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t is unmar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re is an unmarked state T in Dst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each input symbol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e-closure(move(T,a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 U is not in D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d U as an unmarked state to D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tran[T,a]=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tate D is an accepting state if it is a set of NFA  states containing atleast one accepting state of the 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of the DFA corresponds to the e-closure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NFA is shown in the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7200"/>
          <a:ext cx="8381880" cy="6378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IL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-closures are calculat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0)={0,1,2,4,7}=A=start state in corresponding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A,a))={1,2,3,4,6,7,8}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A,b))={1,2,4,5,6,7}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B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B,b))={1,2,5,6,7,9}=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C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C,b))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D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D,b))={1,2,4,5,6,7,10}=E=fin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E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E,b))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FA obta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Fi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4:30:11Z</dcterms:created>
  <dc:creator>anupam</dc:creator>
  <dc:description/>
  <dc:language>en-US</dc:language>
  <cp:lastModifiedBy>anupam</cp:lastModifiedBy>
  <dcterms:modified xsi:type="dcterms:W3CDTF">2006-09-16T04:47:55Z</dcterms:modified>
  <cp:revision>2</cp:revision>
  <dc:subject/>
  <dc:title>Thompson Construction </dc:title>
</cp:coreProperties>
</file>