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FA8-5663-4CF9-8E3A-17CB9049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DE0-DB11-4A3A-A27B-7662D49D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DC3A4-2567-4A1E-9B22-EC038CC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7F03-257F-4BE0-BC16-A15BDA01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7F393-9DE5-46C3-A211-8ACAD4D4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CE2DA-4DAC-406C-89E5-EBDD3EB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754CB-9916-4EB7-8A68-689F6BA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C75C1-4CE8-4F91-A369-885040A5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0BA3E-8C64-46F4-B58B-FF2BCD4B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FB075-C77C-4852-8A3F-BA0D8A3B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51E2-84FF-4509-8C23-C99754C3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F513B-9392-4F99-BFD8-2B21D162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A95-1A0A-44A4-8446-77E872DB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C8847-CC8E-4F18-8F4F-98CFBE1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1F7F4-1BBE-447B-9CB9-7432DB06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C429-52B2-4192-B631-B6E9F065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79FAC-EBAA-435F-95B6-DD3AEC8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71C4-383F-4AAD-A25F-1A683C5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CC839-9070-443A-9010-A382804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A62D0-0C39-4E8F-90E8-4A25B6E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BB3EC-3251-4CAC-8010-961A0B04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CCC8-FC11-4445-AB87-229811B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166F2-64BF-4D46-87C4-1CE181F9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A08-5D95-4223-B0AE-118079C6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EB78-E231-43E1-91C8-3F774808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1C9-6277-4A19-86C8-D284B068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658F-7875-46A3-8608-05D420A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1B0D-8662-4B90-BC14-CADC5285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A6D-6E78-486E-B3F3-26F1467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9EA-ABB8-48E3-A85E-64DA805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2556-CF7D-4AA7-A734-4378977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312-AD8B-44BA-980A-E1F93F3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078-B21F-4981-968A-9552B30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D27C-F918-4F73-B9DD-F6F4360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8218-C4FC-4509-84B6-4FBFA50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856-4CC4-4A4B-883C-0C7369C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B54-769D-4454-8349-8A5F3DEA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F21-4DF1-4083-9F45-9140D2B7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8197-E6C7-40B0-AF72-DE25A3AD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ADFB-8F1D-41FA-A84B-EAF189E2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67BD-34CC-484B-92A1-47DD035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6E1E-A197-46F2-B345-7A220B1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B83D-9CC0-4B01-8150-EB9B83C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749-D8C0-4FD2-BEEC-27E1FD43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2EBC-37C8-49F2-8E33-3E3E0A6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AAD4-C130-44B0-95DD-C2A0AB5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5318-653E-4C94-AB25-8BA6B1B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3DFF-C749-49F1-9453-52D7723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2C40-94AC-43C2-8DE8-D08DAEC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B39A-3655-4960-A56A-B7B0C56F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39DB-BE1C-47BD-8BE9-AE6E0EB4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0042-0E4D-432B-BBD6-CA3D073F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A2C4-2A93-42E2-98CA-2416DB2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D7CE-03BD-419A-818E-FC9BDA3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91B-3BEA-4039-87AF-2BA27B1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ED6D-19BE-4D7D-B3BB-AAC94DC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E8D3-540B-4480-8082-A4F389C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9DD3-4FAB-4AF8-A838-D0C9BE3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A83E-9B6B-491A-AB83-2C5EB4E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DC7F-EE3C-43A3-9E15-741BDDB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7D73A-E02B-4BE4-A91B-18FBAF9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B6CB-4219-4ABC-B723-5B823F9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F702-DDD9-4AB7-9D8E-FECE8BB3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7CCE-B0E3-4DE4-9B8C-AD34EBB5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D8CE-9693-4C01-8A87-594EC17E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423-7370-4BEC-A983-8F956515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EF81-0301-4D15-9567-E39E0E3F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D520-E08F-4119-AF5F-4CF72DC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491A-D27D-4EC5-805B-EF2BA84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634A-DBA1-4DF3-9D6E-A8981C5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AF91-8B35-493C-97C1-502822A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5F99-13CC-48C4-973C-6429096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A0A8-9A9C-446A-A913-0394DDAA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F1A0-B764-4114-81F0-B6E3DD2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2C3A-3705-4607-A809-490004C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3E64-99D8-4368-BEA6-04BDD4B7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992-E0BF-4BD2-8826-BB4B250E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E849-6148-41BF-9511-66F65A3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39954-7C97-4061-A9BB-DA725F3F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AD20-1F3E-48B0-BD7A-5B635EB3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BB78-603F-4D8F-9ED3-AA7CB6F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DA80-6665-4282-A066-B50E323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8ECE-2900-486B-B2FA-2414248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F59E-BFD7-4F5E-AF83-DCB1524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E24D-635A-47C2-83B6-C1EDED9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60D2-0F29-4A77-A91B-4573F2E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29520-857E-40B8-A093-83A7022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E8-1D93-4504-A170-BE50BA0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EB6B-2BDE-425C-9FED-9F3A37D7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DED4-8CB5-4C86-B6E3-81340DC6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2776-DAD7-49A6-92F1-4AC5A545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D124-2DD3-4515-B931-9AC6901F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6D45-0EFC-44AE-9E1E-9EC55CA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DDF7-5023-4171-AD6D-FB0C2D2D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6900-8762-455B-9146-B138170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4B8A-1C3A-4080-92AC-1A47C17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4585-DEF1-4780-A592-6CBCC233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0AEB4-A799-4C45-A832-E527941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037-10ED-4843-8B71-582E0366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C404-A4F8-41CF-B114-5322F17B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A0A8-61F2-4F1C-AE1B-8CEAE988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A860-C8BB-4616-A165-BD001F4F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24F3-EDB4-48D3-A1F5-C4F9DDD3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79CAE-6604-4540-9BDA-704AEEA9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F94BC-F9CA-4D80-BE79-6986AF18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3757-0B6D-4629-B5B1-10529F3A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113FF-8502-4C70-8F4B-EE8BA11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47362-83C7-40B8-B22B-C997DB1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376A8-231A-42AB-874D-F54115B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C22-5E70-46A3-9B29-6EED2CA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-82440" algn="ctr">
              <a:lnSpc>
                <a:spcPts val="2999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A46D-4E89-4900-AEF2-BDDC6BCE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C9112-2EC9-4862-9526-F73DF80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3A56-F064-48F4-8C0F-699260F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5BDF-B5EB-464B-A81D-40AA385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FF6A-1FDC-4131-B503-0D05E32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2E89-4C2E-4403-8E00-B765EBFA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43E2-EF62-42AF-9B70-9321E0BA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37957-7A8D-45A2-8660-24ADA395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0D5A5-5B72-4C28-BB0C-FB783EA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3C78F-1EB5-48BB-BC44-5DC4A64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53753" dir="27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5AD-1BDF-4D4D-980D-DDDCFEC92FF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aa39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635-4EE9-41CD-B1F3-18DF213DD71F}" type="slidenum">
              <a:rPr b="0" lang="en-US" sz="1200" spc="-1" strike="noStrike">
                <a:solidFill>
                  <a:srgbClr val="aaa39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762120" y="1066680"/>
            <a:ext cx="4572000" cy="4572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lowchart: Process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lowchart: Process 10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6374-56F0-4990-8063-7EE3F5D4F17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886-1F75-4476-A2CD-1C61E8C4C6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53753" dir="27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7FE0-7AB7-4598-B450-477C1B98CF9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6F8-760F-4869-8067-D07903E3C0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53753" dir="27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BB54-1F09-4D97-B967-6CFDBCB537A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C6AD-5834-4A26-B21E-E0FA1C712B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Oval 10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Oval 11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8D4-31C3-4D44-9CF0-91275947228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BF77-82EC-49B9-BABC-7B47B8F458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53753" dir="27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1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0C2C-CF32-48B6-A1D7-651319DB453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803-1C87-421E-963C-43AA1ACC83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C73-4C72-4A5E-A366-2ED2BC2A34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C236-2A18-4C26-A18D-E0AEC417419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53753" dir="27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F90-8F87-4858-933F-DF48FEDDEA0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A45-B785-46F0-9D39-9D655E0377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388-0053-479F-A6C5-A23B6D46F0E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70E6-87D1-41CA-B473-37502F1F98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3443-8337-427C-B850-687DA866997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82B-332D-4CDC-AA15-3B86FD1E4B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Gill Sans MT"/>
              </a:rPr>
              <a:t>Introduction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(continued 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   lecture 3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Rectangle 8" descr=""/>
          <p:cNvPicPr/>
          <p:nvPr/>
        </p:nvPicPr>
        <p:blipFill>
          <a:blip r:embed="rId1"/>
          <a:stretch/>
        </p:blipFill>
        <p:spPr>
          <a:xfrm>
            <a:off x="1444680" y="4462560"/>
            <a:ext cx="7413480" cy="1865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8" descr=""/>
          <p:cNvPicPr/>
          <p:nvPr/>
        </p:nvPicPr>
        <p:blipFill>
          <a:blip r:embed="rId1"/>
          <a:stretch/>
        </p:blipFill>
        <p:spPr>
          <a:xfrm>
            <a:off x="1249200" y="-36360"/>
            <a:ext cx="768672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34960" y="-360"/>
            <a:ext cx="7499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ain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(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a=1; b=3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max(++a, ++b)        // 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this calls the inline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with incremented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values of a and du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compil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as instead of this if we have a call lik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x(++a, ++b)        // 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this leads to two inc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lue of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0" lang="en-US" sz="2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as expression replaced is (++a&gt;++b? ++a: ++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just takes the passed arguments and repl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 in the expression. Then compilation evaluates 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-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+SQ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a trans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914400" indent="-282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39720" y="1835280"/>
            <a:ext cx="8821800" cy="527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4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875720" cy="6407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274760" y="4529160"/>
            <a:ext cx="7461360" cy="2292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. So the lexical analyzer converts symbols to an array of easy to use symbolic constants (</a:t>
            </a:r>
            <a:r>
              <a:rPr b="1" lang="en-US" sz="40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TOKENS</a:t>
            </a:r>
            <a:r>
              <a:rPr b="0" lang="en-US" sz="40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ab2627"/>
                </a:solidFill>
                <a:latin typeface="Times New Roman"/>
                <a:ea typeface="Times New Roman"/>
              </a:rPr>
              <a:t>.Also, it removes spaces and other unnecessary things like comments etc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8" descr=""/>
          <p:cNvPicPr/>
          <p:nvPr/>
        </p:nvPicPr>
        <p:blipFill>
          <a:blip r:embed="rId1"/>
          <a:stretch/>
        </p:blipFill>
        <p:spPr>
          <a:xfrm>
            <a:off x="1268280" y="96840"/>
            <a:ext cx="7693200" cy="592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8" descr=""/>
          <p:cNvPicPr/>
          <p:nvPr/>
        </p:nvPicPr>
        <p:blipFill>
          <a:blip r:embed="rId1"/>
          <a:stretch/>
        </p:blipFill>
        <p:spPr>
          <a:xfrm>
            <a:off x="1122480" y="291960"/>
            <a:ext cx="7746840" cy="5121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8" descr=""/>
          <p:cNvPicPr/>
          <p:nvPr/>
        </p:nvPicPr>
        <p:blipFill>
          <a:blip r:embed="rId1"/>
          <a:stretch/>
        </p:blipFill>
        <p:spPr>
          <a:xfrm>
            <a:off x="1432080" y="1262160"/>
            <a:ext cx="7503840" cy="498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74880" y="378000"/>
            <a:ext cx="8218440" cy="587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91a7"/>
            </a:gs>
            <a:gs pos="100000">
              <a:srgbClr val="e8e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047600" y="-36360"/>
            <a:ext cx="7748640" cy="6211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8" descr=""/>
          <p:cNvPicPr/>
          <p:nvPr/>
        </p:nvPicPr>
        <p:blipFill>
          <a:blip r:embed="rId1"/>
          <a:stretch/>
        </p:blipFill>
        <p:spPr>
          <a:xfrm>
            <a:off x="1182600" y="73080"/>
            <a:ext cx="7985160" cy="617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3:18:10Z</dcterms:created>
  <dc:creator>SAMIR</dc:creator>
  <dc:description/>
  <dc:language>en-US</dc:language>
  <cp:lastModifiedBy>SAMIR</cp:lastModifiedBy>
  <dcterms:modified xsi:type="dcterms:W3CDTF">2006-09-10T05:55:45Z</dcterms:modified>
  <cp:revision>13</cp:revision>
  <dc:subject/>
  <dc:title>Introduction (continued )</dc:title>
</cp:coreProperties>
</file>