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507-3C12-4E21-94A4-082035EE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B2A-AB8A-4145-884C-2DAE9CC7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F8B-0AD8-47D6-BBBE-CC55D011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EE7-8FF2-4140-A93E-22AC69FC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D1D-3875-4751-BF3C-87CBCF1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F4E-3D29-48DC-9DAE-FCB80913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698-F8AB-43D1-9C4B-96E981B9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D2A-703B-4360-948D-032248EF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6E1-F927-4596-8AF7-E307FF47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620-914F-471D-BD5E-B512F1B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6BB-2ACC-4932-8960-5B8E11B1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71C-7B65-4424-9062-AF5B4357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986F-AB07-4704-980A-D50DADF1C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-DOWN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-Descent, Predictive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mmar is as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 -&gt; E + T |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 - &gt;  T * F |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 -&gt; (E) |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removing left-recursion , left-fac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les 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s and their transition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&gt;T 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’ -&gt; +T T’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-&gt; F T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-&gt; *F T’’ 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-&gt; (E) |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534520" y="22860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25909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2819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9718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14479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13716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600200"/>
            <a:ext cx="1295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160020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800600" y="2361960"/>
            <a:ext cx="3733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28954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629400" y="30477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30592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12952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3581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36576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35812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809880"/>
            <a:ext cx="1295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77120" y="38098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35053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’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05740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+               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4343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648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48769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5029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72000" y="4419360"/>
            <a:ext cx="3733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49528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400800" y="51051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07732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11480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+                 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53341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58672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58672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6019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624852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95880" y="6095880"/>
            <a:ext cx="2057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5486400"/>
            <a:ext cx="5181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1752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optimization it yields the following DFA like struc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124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1240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114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294920" y="31240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5812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27432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27432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6576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2767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3352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2767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32767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42670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409720" y="3276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3733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89548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38098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342900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5486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5486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54864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5486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5867280"/>
            <a:ext cx="2514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8320" y="5715000"/>
            <a:ext cx="2057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  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rom the star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erm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s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, move to nex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n – term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s go to the state of the “dfa” of the non-term and return on reaching the fin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original  “dfa” and continue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 completion(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ading input string comple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ou reach a final state, string is successfully par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nherently a recursive parser, so it consumes a lot of memory as the stack gr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move this recursion, we use           LL-parser, which uses a table for look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HIG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CS1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to top-down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mbigu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possible by rewriting the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eft- recu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therwise it may lead to an infinite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o left-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ft-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dictive par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the prediction is made about which rule to follow to parse the non-terminal by reading the following inpu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e of predictive parsing, left-factoring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lps remove removable ambigu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factoring is a grammar transformation that is useful for producing a grammar suitable for predictive parsing. The basic idea is that when it is not clear which of two alternative productions to use to expand a non-terminal A, we may be able to rewrite the A-productions to defer the decision until we have seen enough of the input to make the right choi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ho,Ullman,Set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ft-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 grammar rule that is ambigu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-&gt; xP1 | xP2 | xP3 | xP4 ….| x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x &amp; Pi’s are strings of terminals and non-terminals  and x !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rewrite i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-&gt; x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’ -&gt; P1|P2|P3 …|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at the grammar has been 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eft-facto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 and the apparent ambiguity has been removed. Repeating this for every rule left-factors a grammar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mt -&gt;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mt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end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|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mt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endif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m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left factor it as follow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mt -&gt;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mt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endif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FU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FUNC -&gt;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mt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end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psil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by removing th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s: Recursive-Des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, Uses backtrac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s to find a leftmost de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grammar is ambiguous or left-recursive, it finds a suitable pars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rarely used as programming constructs can be parsed without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gramm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         cAd | 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        ab |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string 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H="1">
            <a:off x="3428640" y="22096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22860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66720" y="2286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3040" y="2057040"/>
            <a:ext cx="48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048120"/>
            <a:ext cx="3504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895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28954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733560" y="4800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48769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71640" y="4876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600" y="4647960"/>
            <a:ext cx="48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56386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733920" y="548640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52680" y="11430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1219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90760" y="1219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6720" y="990360"/>
            <a:ext cx="48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 -&gt;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55627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rule to parse A is taken A-&gt;a, turns out CORRECT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s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66688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 non=term in line A is parsed using first rule, A -&gt; ab , but turns out INCORRECT, parser backtr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5257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 -&gt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-&gt;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ursive parsing with backtracking :  examp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143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the first rule,           S-&gt;cAd   to parse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recursive-descent parser that needs no back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                                                             A -&gt; A1 | A2 | ….|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non-terminal to be expanded next is  ‘A’ , then the choice of rule is made on the basis of the current input symbol ‘a’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ransition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like dfa/nfa) for every rule of the gram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ptim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fa by reducing the number of states, yielding the final transi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arse a string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imu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ring on the transi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fter consuming the input the transition diagram reaches 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ccept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 is par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6:30:31Z</dcterms:created>
  <dc:creator>egyptian hak</dc:creator>
  <dc:description/>
  <dc:language>en-US</dc:language>
  <cp:lastModifiedBy>egyptian hak</cp:lastModifiedBy>
  <dcterms:modified xsi:type="dcterms:W3CDTF">2006-09-19T06:37:53Z</dcterms:modified>
  <cp:revision>4</cp:revision>
  <dc:subject/>
  <dc:title>TOP-DOWN PARSING</dc:title>
</cp:coreProperties>
</file>