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4A3-7133-4D2E-AC75-2829C3F9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4BB-AEF9-4E1D-A242-34BEEE45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716-5BBE-45DA-B01B-4F9A3254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C57-2A69-4C53-8C9B-C0B31E78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50D9-600B-401F-B69E-C99B1104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7E71-6A54-45B1-9DCD-EADDD8F7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33BA-39EA-406E-A113-4D878A2A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D17C-1964-467D-90B0-AF376D59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E999-5DBE-4489-A09E-A1DD52B2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8E9C-BE74-4258-8E9B-18E17BC1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B9A9-65F2-4C31-A671-86742B08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E21-4A50-4FC8-B539-7964EDE4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0235-365B-479A-BF73-8987FF6D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2831-8F7A-4731-98B6-B7993400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F7F2-E0E9-4B85-ACF8-4844924D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0878-92FF-4C98-A762-0FB7CC46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CE6F-4227-4012-9C4D-F6B1651B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60B-997A-41DE-BFF4-C62D773E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21B-F672-41CF-830F-8AC0D8EB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98F-77E4-48FD-A6AE-9060E33D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9C4-FE38-49C8-9609-2D02ADE2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EC0-1F15-457F-A9AC-8C45F3F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A2E-F230-4E14-9D4F-61D274D1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2B3-A035-4B52-9FE3-D9CD50FC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18C3-117A-44EF-B92F-10920A1B21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8DD1-FA89-4068-ABBA-62775B7840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Garamond"/>
              </a:rPr>
              <a:t>Three Address Code Generation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Garamond"/>
              </a:rPr>
              <a:t>Backpatching-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red B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ddharth Tiw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4CS30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804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 the following semantic actions for the above gramm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) 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M E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patch(E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falselist, M.qua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truelist = merge(E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truelist, E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true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falselist = E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false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 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M E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patch(E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truelist, M.qua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truelist = E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truelis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falselist = merge(E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falselist, E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false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) 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t E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truelist  = E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falseli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falselist = E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true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) 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truelist = E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trueli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falselist = E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false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) 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d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lop id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truelist = makelist(nextqu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falselist = makelist(nextquad +1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it(if id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place relop id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place goto __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it(goto ___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) 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truelist = makelist(nextqua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t(goto ___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) 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falselist = makelist(nextqua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t(goto ___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) M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Arial"/>
              </a:rPr>
              <a:t>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.Quad = nextqu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examples of the previous lectures for implementing syntax-directed definitions, the easiest way is to use two passes. First syntax tree is constructed and is then traversed in depth-first order to compute the translations given in the definitio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in problem in generating three address codes in a single pass for Boolean expressions and flow of control statements is that we may not know the labels that control must go to at the time jump statements are generat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problem is solved by generating a series of branch statements with the targets of the jumps temporarily left unspecifi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uch statement will be put on a list of goto statements whose labels will be filled in when the proper label can be determi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ubsequent filling of addresses for the determined labels  is called BACKPATCH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mplementing Backpatching ,we generate quadruples into a quadruple array and Labels are indices to this arr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anipulate list if labels ,we use three functions: makelist(i),merge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and backpatch(p,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list(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creates a new list containing only i, an index into the array of quadruples and returns pointer to the list it has mad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ge(i,j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concatenates the lists pointed to by i and j ,and returns a pointer to the concatenated lis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patch(p,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inserts i as the target label for each of the statements on the list pointed to by 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now try to construct the translation scheme for Boolean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s the grammar b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→ 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or 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→ 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and 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→ not 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→ (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 → i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lop i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 →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 →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 →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have done is inserting a marker non-terminal M into the grammar to cause a semantic action to pick up, at appropriate times the index of the next quadruple to be gener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done by the semantic a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 M.Quad = nextquad } for the ru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M →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  <a:ea typeface="Arial"/>
              </a:rPr>
              <a:t>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ynthesized attributes truelist and falselist of non-terminal E are used to generate jumping code for Boolean express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truelist : Contains the list of all the jump statements left incomplete to be filled by the label for the start of the code for E=tr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falselist : Contains the list of all the jump statements left incomplete to be filled by the label for the start of the code for E=fal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ariable nextquad holds the index of the next quadruple to follow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value will be backpatched onto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truelist in case of 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→ 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M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it contains the address of the first statement of E</a:t>
            </a:r>
            <a:r>
              <a:rPr b="0" lang="en-US" sz="2800" spc="-1" strike="noStrike" baseline="-14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c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value will be backpatched onto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falselist in case of 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→ 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or M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it contains the address of the first statement of E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c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5:31:20Z</dcterms:created>
  <dc:creator>Siddharth</dc:creator>
  <dc:description/>
  <dc:language>en-US</dc:language>
  <cp:lastModifiedBy>Siddharth</cp:lastModifiedBy>
  <dcterms:modified xsi:type="dcterms:W3CDTF">2006-11-16T17:02:07Z</dcterms:modified>
  <cp:revision>2</cp:revision>
  <dc:subject/>
  <dc:title>Three Address Code Generation - Backpatching </dc:title>
</cp:coreProperties>
</file>