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98A-B5CE-4295-B7FA-1E1AFD80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1A7-F45B-47FD-91DC-721C3673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8A1-F23B-4A4C-852E-7129C28E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3F5-6A8F-4232-A548-4C31A643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F19-A9ED-43AB-9961-CCC89E9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E38-BFF7-4CB0-B2D4-24EFF5D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417-C432-4C89-808D-9EBDCC6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A1A-9947-466A-9919-8940EF38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A44-272F-494D-953D-5B2447B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38D-B40D-4072-AF32-D4F03043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C2A-9B26-4522-A750-5B4BC47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79B-C9A8-42AE-9196-768E655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5B33-3B34-42B1-841C-207BCA3C5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paperpress.com/lexandyacc/" TargetMode="External"/><Relationship Id="rId2" Type="http://schemas.openxmlformats.org/officeDocument/2006/relationships/hyperlink" Target="http://epaperpress.com/lexandyacc/" TargetMode="External"/><Relationship Id="rId3" Type="http://schemas.openxmlformats.org/officeDocument/2006/relationships/hyperlink" Target="http://epaperpress.com/lexandyacc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X (04CS100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 tool widely used to specify lexical analyzers for a variety of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refer to the tool a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x compiler 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o its input specification as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x  langu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exical analyzer returns a single quantity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o the parser. To pass an attribute value with information about the lexeme, we can set the global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yl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uppose the lexical analyzer returns a single token for all the relational operators, in which case the parser won’t be able to distinguish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”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=”,”&gt;=”,”&lt;”,”&gt;”,”==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c. We can s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ylv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priately to specify the nature of the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he exact syntax and the various symbols that you can use to write the regular expressions visit the manual page of LEX in LINUX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$man  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two variable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ytext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yl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x makes the lexeme available to the routines appearing in the third section through two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ytex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yl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ytex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variable that is a pointer to the first character of the lex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yle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n integer telling how long the lexem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 lexeme may match more than one patterns.How is this problem res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for example the lexe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atches the patterns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word i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If the patter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ecedes the patter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 of the lex program the conflict is resolved in favour of the keyw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 this ambiguity-resolving strategy makes it easy to reserve keywords by listing them ahead of the pattern for ide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ex’s strategy of selecting the longest prefix matched by a pattern makes it easy to resolve other conflicts like the on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&lt;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&lt;=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0"/>
            <a:ext cx="838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ex program,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in(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 is generally includ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n(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yin=fopen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lename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r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le(yylex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sponds to input file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ylex(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e is called which returns the tokens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y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LE poin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clared  b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information on Lex and YACC  visit this li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paperpress.com/lexandyacc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bhra Mazum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04CS1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x.yy.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x.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x.yy.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am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put.c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352680" y="914400"/>
          <a:ext cx="1752480" cy="10303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0040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95480" y="2743200"/>
          <a:ext cx="1981080" cy="104472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895480" y="4495680"/>
          <a:ext cx="2133360" cy="7617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reating a lexical analyzer with L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x program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lex.l 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consists of three par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%%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Transition ru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    %%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xillary procedu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lar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includes declaratio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les,manifest constants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ifest consta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n identifier that is declared to represent a constant  e.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# define PIE 3.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s to be includ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 definitio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ransitio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lation rul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a Lex program are statements of the form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eac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regular expression and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program fragment describing what action the lexical analyzer should take when a string pattern match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es a lex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Lex the actions are written in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xillar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ird section holds whate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xiliary procedur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needed by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on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ly these procedures can be compiled separately and loaded with the lexical analyzer.The auxillary peocedures are written in C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You can refer to a sample lex program given in page no. 109 of chapter 3 of the book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Compilers: Principles, Techniques, and To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ho, Sethi &amp; Ullman for more c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ow does this Lexical analyz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xical analyzer cre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haves in concert with a parser in the following manner. When activated by the parser, the lexical analyzer begins reading its remaining input , one character at a time, until it has found the longest prefix of the input that is matched by one of the regular express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it executes the correspo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ly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return control to the parser. However, if it does not, then the lexical analyzer proeeds to find more lexemes, until 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uses control to return to the parser. The repeated search for lexemes until an explicit return allows the lexical analyzer to process white space and comments conveni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1:17:36Z</dcterms:created>
  <dc:creator>subhra</dc:creator>
  <dc:description/>
  <dc:language>en-US</dc:language>
  <cp:lastModifiedBy>Prof. Niloy Ganguly</cp:lastModifiedBy>
  <dcterms:modified xsi:type="dcterms:W3CDTF">2006-09-12T07:00:00Z</dcterms:modified>
  <cp:revision>71</cp:revision>
  <dc:subject/>
  <dc:title>LEX</dc:title>
</cp:coreProperties>
</file>