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1796-2567-4936-8B3D-78E1C2BBF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9C09-A3D5-4DCD-BA77-EF40F654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D852-3E50-4F8E-89D3-F49B12DA4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C089-7348-47E8-B3CA-8525FDC3C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3156-E40E-4C68-B2F8-982EFD57B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CE42-5EB6-4A27-BD5E-AAC589C6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F64D-823C-416C-BB2F-577C0A14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DAB7-6B86-483B-B9E3-23F90459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330A-6F13-4B8E-A49C-F331D6A6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DDA7-B3A4-4784-99D2-EE6A4827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BD0E-5C8F-4F9F-9B25-D9C7A7D4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2262-48EA-45D3-AB23-9EFCFEE8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1361-B50F-42CD-840C-4C447E77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497B-B04B-4F44-AECD-03AEC15D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052D-393E-45CC-B2EA-3B0F592C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3B27-96A9-4C24-A8A2-893FFDE2A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9C13-16BB-4BAF-914A-F3367A5F7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BA30-F27E-43FA-A117-68B47AFC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6507-EEE3-4BBA-B9E2-4F57AA89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8D7A-5B13-4BB7-AEC3-94ABC509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3308-8450-4D53-BB67-DBB386C9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D8A7-14CD-407F-A1FB-01AB0A30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2A11-834B-4492-84B4-DD8C8980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5630-BA77-4455-B29A-146AD500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50A4-B4E3-405F-A926-E25B016B1A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4A17-5509-4FBA-A249-B8666817D7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 rot="21089400">
            <a:off x="1371240" y="2285640"/>
            <a:ext cx="64008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EFT RECURSION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1447920"/>
            <a:ext cx="754380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w, we may expand B to b1 or b2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2666880"/>
            <a:ext cx="7315200" cy="2288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left factored original expression becom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-&gt;a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-&gt;b1|b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2438280" y="1905120"/>
            <a:ext cx="43434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ND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LEFT RECURSION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676520"/>
            <a:ext cx="815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grammar is said to be left –recursive if it has a non-terminal A such that there is a derivation   A =&gt;Aa, for some string a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3276720"/>
            <a:ext cx="58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der the  gramma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i) A -&gt; Aa|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4724280"/>
            <a:ext cx="716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responding grammar without left recurs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-&gt;b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-&gt;aR|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85800"/>
            <a:ext cx="73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can eliminate immediate left recur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m them by the following technique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we group the A-productions as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25146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-&gt; Aa1 | Aa2 | Aa3 |...| Aam | b1 | b2 | b3 |....| b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 no bi begins with an 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4191120"/>
            <a:ext cx="7543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n we replace the A-productions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-&gt; b1T | b2T | b3T |......| b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-&gt; a1T | a2T | a3T |......| amT | 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60948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bove process removes all immediate left recursions but does not remove recursions involving derivations of  two or more step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251460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der the gramma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 -&gt; A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-&gt; Sb | c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441972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e the grammar does not have immediate left recursion .. but has a left recursion because S =&gt;Aa =&gt; Sb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838080" y="685800"/>
            <a:ext cx="73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such cases we set a 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ierarch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” among non-terminals and implement the followi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gorith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289548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range the non-terminals n some order           A1,A2, …An (setting the hierarch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146160"/>
            <a:ext cx="7620120" cy="67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for i=1 to 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j=1 to i-1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lace each production of the for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 -&gt; Aj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the produc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-&gt;d1g | d2g | ....| dk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,  Aj -&gt; d1 | d2 | d3 |..... | dk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all the current Aj po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iminate the immediate left recursion among the Ai produ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38080" y="6094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the above grammar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-&gt;A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-&gt;Aab|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3048120"/>
            <a:ext cx="76201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removing immediate left recursion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-&gt;A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-&gt;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-&gt;abT|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22840" y="4381560"/>
            <a:ext cx="1768680" cy="366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LEFT  FACTOR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2133720"/>
            <a:ext cx="7848360" cy="1373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ft factoring is a grammar transformation that is useful for producing a grammar suitable for predictive pars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3962520"/>
            <a:ext cx="7467480" cy="2226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i Idea : When it is not clear which of two alternative productions to use to expand a non-terminal A, we may be able to rewrite the A-productions to defer the decision until we have seen enough of the input to make the right choi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09480" y="762120"/>
            <a:ext cx="8153640" cy="1373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exampl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-&gt;ab1 | ab2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two A-produ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2819520"/>
            <a:ext cx="8153280" cy="1373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the input begins with a non-empty string derived from ‘a’ we do not know whether to expand ‘A’ to ‘ab1’ or ‘ab2’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4724280"/>
            <a:ext cx="7391520" cy="947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ever , we may defer the decision by expanding  A to aB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20:22:38Z</dcterms:created>
  <dc:creator>kiran</dc:creator>
  <dc:description/>
  <dc:language>en-US</dc:language>
  <cp:lastModifiedBy>kiran</cp:lastModifiedBy>
  <dcterms:modified xsi:type="dcterms:W3CDTF">2006-10-15T21:01:31Z</dcterms:modified>
  <cp:revision>3</cp:revision>
  <dc:subject/>
  <dc:title>Slide 1</dc:title>
</cp:coreProperties>
</file>