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DC6-2768-40FA-9EFF-F6B68DB9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FE0-D526-46CF-8D3F-F299245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466-FE9E-4EE4-807C-02CBEFDA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442-2934-4E99-BF88-FB434ED6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BE6-6A72-4058-8FA4-091E9260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46F-91BD-469B-8A41-DB2053D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E0E-8071-4A74-B92C-B6F0345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F02-6C6C-425F-859C-CD190CC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455-F716-462B-BF4D-F33B3B0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E1A-1F62-4282-B747-6E69910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4DC-3759-4DD2-9195-7DF76CE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836-343E-48F0-8E5B-CCD92E25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899-3E42-4240-8789-EF30F1D6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(1)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g:</a:t>
            </a:r>
            <a:r>
              <a:rPr b="0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ider the following gramm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--&gt; iEtSS’ |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’ --&gt; eS | </a:t>
            </a:r>
            <a:r>
              <a:rPr b="1" i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 --&gt;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                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           i,a                       $,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            b                         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           e,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,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841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&gt;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t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&gt;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-&gt; </a:t>
                      </a:r>
                      <a:r>
                        <a:rPr b="1" i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-&gt; </a:t>
                      </a:r>
                      <a:r>
                        <a:rPr b="1" i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&gt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grammar is ambiguous and it is evident by the fact that we have two entries corresponding to M[S’,e] containing S --&gt;</a:t>
            </a:r>
            <a:r>
              <a:rPr b="1" i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-&gt;eS.This ambiguity can be resolved if we choose S’--&gt;eS i.e associating the else’s with the closest previous “the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L(1) grammars have distinct properties.No ambiguous grammar or left recusive grammar can be LL(1).A grammar is LL(1) if and only if whenever a production A--&gt; C | D the following conditions ho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)For no terminal a both C and D derive strings beginning with a.Thus First(C) != First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)At most one of C or D can deri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) If C* </a:t>
            </a:r>
            <a:r>
              <a:rPr b="1" i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n D doesnot derive any string beginning with terminal Follow(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22:02:28Z</dcterms:created>
  <dc:creator>iit</dc:creator>
  <dc:description/>
  <dc:language>en-US</dc:language>
  <cp:lastModifiedBy>iit</cp:lastModifiedBy>
  <dcterms:modified xsi:type="dcterms:W3CDTF">2006-09-16T22:19:54Z</dcterms:modified>
  <cp:revision>2</cp:revision>
  <dc:subject/>
  <dc:title>LL(1) PARSER</dc:title>
</cp:coreProperties>
</file>