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717E-0F8E-4938-B576-212351697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0891-09EE-4F35-ACDB-064F915AB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43FD-0C17-424F-870C-8BF1B4DC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82A9-8271-4D93-A340-9A37ABBB8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0633-C4E8-429E-B92B-E44790B98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7E54-C155-475D-A65F-5A66ABA92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EF3F-712A-4F5C-B9AC-D0F495C0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0C35-AFD7-4C3A-8FFB-A45F9711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45D8-04BE-4713-A0C7-5CD725C8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8786-78AF-46EF-859F-4872A607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B279-602F-40D4-86C1-82944406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49A5-4BAF-445E-8C05-E3FBD304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B55C-6F1F-4CB5-AD60-91B9C486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59B0-2E26-4E27-A0F5-91005C06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C810-B8D4-4AED-9588-43379157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423D-1ABB-4D19-939D-A0F6822D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66C3-4AF6-4BD4-98C6-5555D01DD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7BFD-7872-4EDC-9429-40CA57A66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801C-1FB3-4E00-85C3-AAC63462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75EA-9D16-4B5A-9394-DCF1E81B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EBE9-FCE2-4764-BBEB-A959F155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5BD9-E214-4AF8-B6B3-9079A9BE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7DC3-06E6-4EC4-80AC-B931B2C4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8FBF-4949-4C7E-BB0B-68AEA302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C7BF-B5B7-4F72-B6CE-8A3E2145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38dc7"/>
                </a:gs>
                <a:gs pos="100000">
                  <a:srgbClr val="253f5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FF27-1170-4696-83AE-A52FF70FFCE9}" type="datetime5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E432-5132-4B20-9CBC-A6FE5A045E86}" type="slidenum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64DB-2F10-41D5-94F5-B531A7432A99}" type="datetime5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C695-5D8C-486D-B656-2EC24F23B9A9}" type="slidenum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538dc7">
              <a:alpha val="50000"/>
            </a:srgbClr>
          </a:solidFill>
          <a:ln w="76320">
            <a:solidFill>
              <a:srgbClr val="f8f8f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538dc7">
              <a:alpha val="50000"/>
            </a:srgbClr>
          </a:solidFill>
          <a:ln w="76320">
            <a:solidFill>
              <a:srgbClr val="f8f8f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Arial"/>
              </a:rPr>
              <a:t>LALR PARSER</a:t>
            </a:r>
            <a:endParaRPr b="0" lang="en-US" sz="5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438280" y="4572000"/>
            <a:ext cx="6400800" cy="1447920"/>
          </a:xfrm>
          <a:prstGeom prst="rect">
            <a:avLst/>
          </a:prstGeom>
          <a:solidFill>
            <a:srgbClr val="538dc7">
              <a:alpha val="50000"/>
            </a:srgbClr>
          </a:solidFill>
          <a:ln w="76320">
            <a:solidFill>
              <a:srgbClr val="f8f8f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Prepared by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VISHWA DEEPAK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04CS1029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Vishwa Deepak                            04CS102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6F82-A8E9-4111-A96F-0B34191E270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E74599E-C8BA-4C56-B5C6-7D786333ADF6}" type="datetime5">
              <a:rPr lang="en-US"/>
              <a:t>Jul 29, 20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438280" y="457200"/>
            <a:ext cx="6400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I4:   S-&gt;aA.d, $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I5:   S-&gt; aB.e,$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I6:   </a:t>
            </a:r>
            <a:r>
              <a:rPr b="1" lang="en-US" sz="2400" spc="-1" strike="noStrike" u="sng">
                <a:solidFill>
                  <a:srgbClr val="f8f8f8"/>
                </a:solidFill>
                <a:uFillTx/>
                <a:latin typeface="Arial"/>
              </a:rPr>
              <a:t>A-&gt;c. ,     d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8f8f8"/>
                </a:solidFill>
                <a:uFillTx/>
                <a:latin typeface="Arial"/>
              </a:rPr>
              <a:t>       </a:t>
            </a:r>
            <a:r>
              <a:rPr b="1" lang="en-US" sz="2400" spc="-1" strike="noStrike" u="sng">
                <a:solidFill>
                  <a:srgbClr val="f8f8f8"/>
                </a:solidFill>
                <a:uFillTx/>
                <a:latin typeface="Arial"/>
              </a:rPr>
              <a:t>B-&gt;c. ,     e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I7:   S-&gt;bB.d, $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I8:   S-&gt;bA.e, $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I9:   </a:t>
            </a:r>
            <a:r>
              <a:rPr b="1" lang="en-US" sz="2400" spc="-1" strike="noStrike" u="sng">
                <a:solidFill>
                  <a:srgbClr val="f8f8f8"/>
                </a:solidFill>
                <a:uFillTx/>
                <a:latin typeface="Arial"/>
              </a:rPr>
              <a:t>B-&gt;c. ,   d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8f8f8"/>
                </a:solidFill>
                <a:uFillTx/>
                <a:latin typeface="Arial"/>
              </a:rPr>
              <a:t>       </a:t>
            </a:r>
            <a:r>
              <a:rPr b="1" lang="en-US" sz="2400" spc="-1" strike="noStrike" u="sng">
                <a:solidFill>
                  <a:srgbClr val="f8f8f8"/>
                </a:solidFill>
                <a:uFillTx/>
                <a:latin typeface="Arial"/>
              </a:rPr>
              <a:t>A-&gt;c. ,   e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I10: S-&gt;aAd. , $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I11: S-&gt;aBe., $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I12: S-&gt;bBd., $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I13: S-&gt;aBe., $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e underlined items are of our interest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ere is no reduce/reduce conflict in the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underlined items, due to different follows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hwa Deepak                            04CS102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ED5E-01C7-40B6-8275-2CA6B001C42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E06201-5F4D-4F87-BD4B-5D3B5BE22E5B}" type="datetime5">
              <a:rPr lang="en-US"/>
              <a:t>Jul 29, 20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LR and LALR parsing tabl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LR parser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Item   d      e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I1       ..      .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I2       ..      .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..        ..      .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I6      r6      r7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..        ..      .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I9      r7      r6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..        ..      .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LALR  parser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Item    d          e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I1       ..           .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I2       ..           .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..        ..           .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I69     r6/r7    r6/r7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..        ..           ..  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I10     ..           ..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..        ..           ..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hwa Deepak                            04CS102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6C59-A529-43D3-A505-4F82073D4557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D07DC8-61E1-4F8F-9AEB-12E4D35D0597}" type="datetime5">
              <a:rPr lang="en-US"/>
              <a:t>Jul 29, 20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362320" y="228600"/>
            <a:ext cx="6400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In the last slide we found that even there was no R/R conflict in LR(1) parser, it appeared in LALR parser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s shows that LALR is less potent than LR(1) parser ,since it gains R/R conflict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LALR is free of S/R  conflict , if LR(1) is. But SLR may be having this conflict. So, SLR is least potent among all the three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hwa Deepak                            04CS102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E34B-1AFE-4625-B7FE-DB245B15371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89ECE3-3DB5-4F1B-BDDF-EE1871E10CA0}" type="datetime5">
              <a:rPr lang="en-US"/>
              <a:t>Jul 29, 20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HIFT-REDUCE CONFLICT present in SLR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f8f8f8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ome of them are solved in…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LR (1)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f8f8f8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All those solved are preserved in…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                         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LALR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hwa Deepak                            04CS102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E6E0-4230-4EBC-9847-2A8387AB9A3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C26292-3AFB-4EBA-9D96-E88FB18DCB0B}" type="datetime5">
              <a:rPr lang="en-US"/>
              <a:t>Jul 29, 20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438280" y="838080"/>
            <a:ext cx="6400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ere are three issues which arise here—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Whether LALR is equivalent to SLR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hift/Reduce conflict in the cases of LR(1) and LALR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Reduce/Reduce conflict in the cases of LR(1) and  LALR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hwa Deepak                            04CS102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F885-32BB-4C0A-B8F5-7C34E193B23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6B7FDE-C8CE-4C5A-A47C-9E86A6772077}" type="datetime5">
              <a:rPr lang="en-US"/>
              <a:t>Jul 29, 20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aking an example Grammar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20574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S’ -&gt; 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S -&gt; Bbb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S -&gt; aab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S -&gt; bBa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B -&gt; a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hwa Deepak                            04CS102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05C0-9E14-4201-A308-BF570797965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AD1C0-F91C-4731-8667-9C83F72FFDE8}" type="datetime5">
              <a:rPr lang="en-US"/>
              <a:t>Jul 29, 20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Items using SLR PARSER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I0 :   S’ -&gt; .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 -&gt; .Bbb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 -&gt; .aab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 -&gt; .bBa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B -&gt;  .a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I1:    S’  -&gt; S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I2:    S -&gt; B.bb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I3:   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 S -&gt; a.ab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        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B -&gt; a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hwa Deepak                            04CS102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27E6-0704-44DB-8B0C-A1D067DBDA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C7B0E8-DF26-4166-8B14-6102AB068050}" type="datetime5">
              <a:rPr lang="en-US"/>
              <a:t>Jul 29, 20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362320" y="837720"/>
            <a:ext cx="6400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I4:    S -&gt; b.Ba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B -&gt; .a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I5:    S-&gt; Bb.b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I6:    S -&gt; aa.b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I7:    S -&gt; bB.a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I8:    B -&gt; a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I9:    S-&gt; Bbb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I10:  S -&gt; aab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I11:  S -&gt; bBa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Underlined item shows shift/reduce conflict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hwa Deepak                            04CS102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5D20-B733-42D9-9F3E-ECBBBF1F36B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518759-30FB-4C9B-B795-C84100054CE4}" type="datetime5">
              <a:rPr lang="en-US"/>
              <a:t>Jul 29, 20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Items using LR(1) PARSER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I0 :  S’ -&gt; .S , $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S -&gt; .Bbb ,$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S -&gt; .aab , $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S -&gt; .bBa , $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B -&gt; .a ,a|b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I1:   S’ -&gt; S. ,$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I2:   S -&gt; B.bb , $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I3:  </a:t>
            </a:r>
            <a:r>
              <a:rPr b="0" lang="en-US" sz="2400" spc="-1" strike="noStrike" u="sng">
                <a:solidFill>
                  <a:srgbClr val="f8f8f8"/>
                </a:solidFill>
                <a:uFillTx/>
                <a:latin typeface="Arial"/>
              </a:rPr>
              <a:t> S -&gt; a.ab ,$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8f8f8"/>
                </a:solidFill>
                <a:uFillTx/>
                <a:latin typeface="Arial"/>
              </a:rPr>
              <a:t>       </a:t>
            </a:r>
            <a:r>
              <a:rPr b="0" lang="en-US" sz="2400" spc="-1" strike="noStrike" u="sng">
                <a:solidFill>
                  <a:srgbClr val="f8f8f8"/>
                </a:solidFill>
                <a:uFillTx/>
                <a:latin typeface="Arial"/>
              </a:rPr>
              <a:t>B -&gt; a. , b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I4:  S -&gt; b.Ba , $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B -&gt; .a ,a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hwa Deepak                            04CS102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0BBD-DEF9-4797-8860-D789B67010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CF5D1A-6828-4907-BFF1-E70AE3DBD2FA}" type="datetime5">
              <a:rPr lang="en-US"/>
              <a:t>Jul 29, 20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362320" y="533520"/>
            <a:ext cx="6400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I5:   S-&gt; Bb.b ,$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I6:   S -&gt; aa.b ,$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I7:   S -&gt; bB.a ,$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I8:   B -&gt; a. ,a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I9:   S-&gt; Bbb. ,$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I10:  S -&gt; aab. ,$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I11:  S -&gt; bBa. ,$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In the underlined item ,  we find that there is no shift / reduce conflict.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Here LALR = LR(1)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&amp; Number of states in SLR parser = Number of states in LR(1) parser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hwa Deepak                            04CS102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10A9-786D-4E68-9D7E-2C3DDB9DBA4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DBD61B-2117-4F2C-AB7A-36393DBEDE96}" type="datetime5">
              <a:rPr lang="en-US"/>
              <a:t>Jul 29, 20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NEXT GRAMMAR (EXAMPLE)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#To discuss reduce/reduce conflic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’-&gt; 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-&gt; aAd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-&gt; bBd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-&gt; aB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-&gt; bA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A-&gt; c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B-&gt; c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hwa Deepak                            04CS102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685D-8A5C-4380-80A6-7B50297BEDF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2D6CE7-694C-4561-95BD-636E7911F8AD}" type="datetime5">
              <a:rPr lang="en-US"/>
              <a:t>Jul 29, 20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Items using LR(1) PARSER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I0 : S’-&gt; .S ,  $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-&gt; . aAd,  $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-&gt; . bBd,  $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-&gt; . aBe, $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-&gt; . bAe, $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I1: S’-&gt; S ., $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I2: S-&gt; a . Ad, $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-&gt; a . Be, $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A-&gt; .c, d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B-&gt;.c, e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I3: S-&gt; b . Bd, $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-&gt; b . Ae, $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A-&gt;.c, e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B-&gt;.c,d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hwa Deepak                            04CS102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31EF-B496-45E8-A5A7-8923CE18F2E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35E2B8-946D-4455-BEF0-224614AEFA7E}" type="datetime5">
              <a:rPr lang="en-US"/>
              <a:t>Jul 29, 20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10:22:09Z</dcterms:created>
  <dc:creator>VishwaDeepak</dc:creator>
  <dc:description/>
  <dc:language>en-US</dc:language>
  <cp:lastModifiedBy>VishwaDeepak</cp:lastModifiedBy>
  <dcterms:modified xsi:type="dcterms:W3CDTF">2006-11-03T13:04:11Z</dcterms:modified>
  <cp:revision>9</cp:revision>
  <dc:subject/>
  <dc:title>LALR PARSER</dc:title>
</cp:coreProperties>
</file>