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081-48F7-4A96-A03E-B850027D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632-BA91-4ADE-8905-359CF382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285-5A5A-4B3A-A33E-58BC5F2C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26E-25A1-432A-8962-EBF00BA5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FF8-4476-4216-82A3-7F7CEA31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3217-5BE2-4CB8-B519-DCD2C5F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4EFA-EC8A-40CB-B113-BC6F56C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931A-8A70-4950-8A58-8E68FD42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D8D-19E3-4C95-97EC-E0639DE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80D-84E3-4C4F-9BE4-72F01BA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669A-62B2-4128-AC27-2B523D3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AD0-C321-4B6D-8AC7-3834C375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2574-EAF7-4F95-BEC1-182932C3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1B7-10CB-4BE7-874C-2D8470B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CB78-7733-40E9-86B5-DFDCA16D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ECA-1160-4355-B64E-DB297396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FC58-1900-4E82-A493-3FF4FD9D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C6D-2F2C-4982-9E67-325FE4E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381-8CB8-4B66-B120-1C28F6C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093-CEC9-402B-89A4-F0A60E1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A75-AF81-43BF-BE92-22F59EE1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940-9305-483D-97C4-7ED96D1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853-B303-4814-9FF6-EC88577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97F-270D-445E-845B-612831A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945-B642-4BE8-BBD5-79BD89F0304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96E-4733-4135-9628-B41186C2E86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ranslation Scheme for Addressing Array Eleme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.Sai Prashan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04CS103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emantic actions will be added to the following grammar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S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L : = 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E + 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( E 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L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Elist ]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L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Elist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Elist , 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Elist </a:t>
            </a:r>
            <a:r>
              <a:rPr b="0" i="1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id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[ 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o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three-address code is produced by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emi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procedure which is invoked in the semantic actio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rmal assignment is generated if L is a simple nam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dexed assignment is generated into the location denoted by L otherwis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990720"/>
          <a:ext cx="7386480" cy="5230800"/>
        </p:xfrm>
        <a:graphic>
          <a:graphicData uri="http://schemas.openxmlformats.org/drawingml/2006/table">
            <a:tbl>
              <a:tblPr/>
              <a:tblGrid>
                <a:gridCol w="2251080"/>
                <a:gridCol w="513540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S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L : = E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f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L.offset =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ull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en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/* L is a simple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d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*/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L.place ‘: =’ E.place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lse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L.place ‘[‘ L.offset ‘]’ ‘: =’ E.place) }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E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E1 + E2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E.place : = newtemp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E.place ‘: =’ E1.place ‘+’ E2.place) }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E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(E1)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E.place : = E1.place }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E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L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f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L.offset =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ull then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/* L is a simple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d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*/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.place : = L.pla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lse begin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.place : = newtem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228600"/>
          <a:ext cx="7386480" cy="6318360"/>
        </p:xfrm>
        <a:graphic>
          <a:graphicData uri="http://schemas.openxmlformats.org/drawingml/2006/table">
            <a:tbl>
              <a:tblPr/>
              <a:tblGrid>
                <a:gridCol w="2403360"/>
                <a:gridCol w="4983120"/>
              </a:tblGrid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L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Elist ]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L.place : = newtem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.offset : = newtem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L.place ‘: =’ c(Elist.array)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L.offset ‘: =’ Elist.place ‘*’ width(Elist.array)) }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L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d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L.place : =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d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pla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.offset : =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ull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}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25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Elist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Elist1 , E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t : = newtem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m : = Elist1.ndim + 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t ‘: =’ Elist1.place ‘*’ limit(Elist1.array,m)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mit(t ‘: =’ t ‘+’ E.place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list.array : = Elist1.array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list.place : = t; Elist.dim : = m }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8. Elist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d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[ E</a:t>
                      </a: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{ Elist.array : = </a:t>
                      </a:r>
                      <a:r>
                        <a:rPr b="1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d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.pla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list.place : = E.pla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list.dim : = 1 }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se Tre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76520" y="1066680"/>
          <a:ext cx="47768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7768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ample - </a:t>
            </a: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X [i , j] : = Y [ i  + j, k] + z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1 : = i *  d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2 : = t1 + j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3 : = c(X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4 : = t2 * width(X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5 : = i + j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6 : = t5 * d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7 : = t6 + 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8 : = c(Y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9 : = t7 * width(Y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10 : = t8[t9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11 : = t10 + 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t3[t4] : = t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7:07:55Z</dcterms:created>
  <dc:creator>Sai Prashanth</dc:creator>
  <dc:description/>
  <dc:language>en-US</dc:language>
  <cp:lastModifiedBy>Sai Prashanth</cp:lastModifiedBy>
  <dcterms:modified xsi:type="dcterms:W3CDTF">2006-11-16T17:36:04Z</dcterms:modified>
  <cp:revision>14</cp:revision>
  <dc:subject/>
  <dc:title>Translation Scheme for Addressing Array Elements</dc:title>
</cp:coreProperties>
</file>