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347-2E59-402D-8669-2E1015A7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637-27C4-4B6C-9654-CA61F10D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EF4-0764-4F42-9C19-07458711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6C1-4515-44E8-AF7C-F971E245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369B-AED6-4BAE-9049-5381FBBD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3F37-F3D5-4CEF-841D-85364A3D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4CFD-5416-4D80-B48F-C18135C2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6967-3670-4138-8317-15355E8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81F6-0305-42B9-AE9C-97F73726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C155-C847-4F7D-924C-AA2C88A4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7342-7985-4571-9A25-EE82457B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E44-461D-4F6E-A95F-0D0C1D5B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2976-D594-4358-B35C-7AB1B0AE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D5E4-7512-46B8-8133-79DF0A0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F5C0-F731-4504-BC54-833CAD56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1E9D-AED0-4DB6-97B4-14FB2E95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FFAC-1474-4A63-B76F-24FCEAD0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30B-6167-4C7A-A3B3-2956DBC4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822-B3D5-4D4C-BAB9-83308E80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CB0-7145-4489-BCE5-FFD40290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713-5CA0-494C-A97E-8D219A01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30A-9F02-4D46-9BCC-AC3A04D9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66B-9E8B-4F6C-A9FD-5D61B652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D55-3EAC-4CC6-B95B-FA794E4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2960" indent="-282960">
              <a:lnSpc>
                <a:spcPct val="124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14880" indent="-235440">
              <a:lnSpc>
                <a:spcPct val="124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124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lnSpc>
                <a:spcPct val="124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07480" indent="-189720">
              <a:lnSpc>
                <a:spcPct val="124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07480" indent="-189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07480" indent="-18972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4C9BE-A4ED-4AB2-A682-5AE7E1C1A966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98B63-5C1D-4D88-83D5-17D550176713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7160" indent="-317160">
              <a:lnSpc>
                <a:spcPct val="124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9040" indent="-263880">
              <a:lnSpc>
                <a:spcPct val="124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124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87880" indent="-212400">
              <a:lnSpc>
                <a:spcPct val="124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>
              <a:lnSpc>
                <a:spcPct val="124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13040" indent="-21240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13040" indent="-21240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524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Thompson Construction, Subset Construction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4343040"/>
            <a:ext cx="45720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tinue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685800"/>
            <a:ext cx="46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cc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cccc"/>
                </a:solidFill>
                <a:latin typeface="Comic Sans MS"/>
              </a:rPr>
              <a:t>LECTURE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993300"/>
                </a:solidFill>
                <a:latin typeface="Tahoma"/>
              </a:rPr>
              <a:t>Space/Time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 Tradeoff (</a:t>
            </a:r>
            <a:r>
              <a:rPr b="0" lang="en-GB" sz="4000" spc="-1" strike="noStrike">
                <a:solidFill>
                  <a:srgbClr val="ff6600"/>
                </a:solidFill>
                <a:latin typeface="Tahoma"/>
              </a:rPr>
              <a:t>Worst Case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057400" y="2465280"/>
            <a:ext cx="5183280" cy="2055960"/>
            <a:chOff x="2057400" y="2465280"/>
            <a:chExt cx="5183280" cy="2055960"/>
          </a:xfrm>
        </p:grpSpPr>
        <p:sp>
          <p:nvSpPr>
            <p:cNvPr id="282" name=""/>
            <p:cNvSpPr/>
            <p:nvPr/>
          </p:nvSpPr>
          <p:spPr>
            <a:xfrm>
              <a:off x="5511960" y="3965400"/>
              <a:ext cx="172692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O(|x|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84680" y="3965400"/>
              <a:ext cx="1727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O(2</a:t>
              </a:r>
              <a:r>
                <a:rPr b="0" lang="en-GB" sz="2800" spc="-1" strike="noStrike" baseline="50000">
                  <a:solidFill>
                    <a:srgbClr val="ffffff"/>
                  </a:solidFill>
                  <a:latin typeface="Tahoma"/>
                </a:rPr>
                <a:t>|r|</a:t>
              </a: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7400" y="3965400"/>
              <a:ext cx="1727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DF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11960" y="3021120"/>
              <a:ext cx="17269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O(|r|*|x|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84680" y="3021120"/>
              <a:ext cx="17272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O(|r|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7400" y="3021120"/>
              <a:ext cx="17272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NF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11960" y="2465280"/>
              <a:ext cx="17269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9999ff"/>
                  </a:solidFill>
                  <a:latin typeface="Tahoma"/>
                </a:rPr>
                <a:t>Ti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84680" y="2465280"/>
              <a:ext cx="17272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9999ff"/>
                  </a:solidFill>
                  <a:latin typeface="Tahoma"/>
                </a:rPr>
                <a:t>Spac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57400" y="2465280"/>
              <a:ext cx="17272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2465280"/>
              <a:ext cx="51814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57400" y="3021120"/>
              <a:ext cx="5181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57400" y="3965400"/>
              <a:ext cx="5181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7400" y="4519440"/>
              <a:ext cx="518148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2465280"/>
              <a:ext cx="1440" cy="205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84680" y="2465280"/>
              <a:ext cx="1440" cy="205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11960" y="2465280"/>
              <a:ext cx="1440" cy="205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8880" y="2465280"/>
              <a:ext cx="1800" cy="205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5400" spc="-1" strike="noStrike">
                <a:solidFill>
                  <a:srgbClr val="cc6600"/>
                </a:solidFill>
                <a:latin typeface="Franklin Gothic Medium"/>
              </a:rPr>
              <a:t>PREPARED BY</a:t>
            </a:r>
            <a:r>
              <a:rPr b="0" lang="en-GB" sz="3200" spc="-1" strike="noStrike">
                <a:solidFill>
                  <a:srgbClr val="3399ff"/>
                </a:solidFill>
                <a:latin typeface="Tahoma"/>
              </a:rPr>
              <a:t> 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99ff66"/>
                </a:solidFill>
                <a:latin typeface="Georgia"/>
              </a:rPr>
              <a:t>PANKAJ TA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en-GB" sz="3200" spc="-1" strike="noStrike">
                <a:solidFill>
                  <a:srgbClr val="cc00cc"/>
                </a:solidFill>
                <a:latin typeface="Century Gothic"/>
              </a:rPr>
              <a:t>04CS1002</a:t>
            </a: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8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ff5050"/>
                </a:solidFill>
                <a:latin typeface="Tahoma"/>
              </a:rPr>
              <a:t>  </a:t>
            </a:r>
            <a:r>
              <a:rPr b="0" lang="en-GB" sz="3600" spc="-1" strike="noStrike">
                <a:solidFill>
                  <a:srgbClr val="ff5050"/>
                </a:solidFill>
                <a:latin typeface="Tahoma"/>
              </a:rPr>
              <a:t>pdon007@yahoo.co.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22104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NFA TO DFA CONVERSION</a:t>
            </a: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An Examp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876920"/>
            <a:ext cx="7543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irst we calculate: 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-closure(0)     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(i.e., state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993300"/>
                </a:solidFill>
                <a:latin typeface="Times New Roman"/>
              </a:rPr>
              <a:t>-closure(0) = {0, 1, 2, 4, 7}</a:t>
            </a:r>
            <a:r>
              <a:rPr b="1" lang="en-GB" sz="24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(all states reachable from 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on </a:t>
            </a: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-mov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3300"/>
                </a:solidFill>
                <a:latin typeface="Times New Roman"/>
              </a:rPr>
              <a:t>Let A={0, 1, 2, 4, 7} be a state of new DFA, 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04920" y="1295280"/>
            <a:ext cx="8534160" cy="3309120"/>
            <a:chOff x="304920" y="1295280"/>
            <a:chExt cx="8534160" cy="3309120"/>
          </a:xfrm>
        </p:grpSpPr>
        <p:grpSp>
          <p:nvGrpSpPr>
            <p:cNvPr id="88" name=""/>
            <p:cNvGrpSpPr/>
            <p:nvPr/>
          </p:nvGrpSpPr>
          <p:grpSpPr>
            <a:xfrm>
              <a:off x="8153280" y="3581280"/>
              <a:ext cx="609840" cy="609840"/>
              <a:chOff x="8153280" y="3581280"/>
              <a:chExt cx="609840" cy="609840"/>
            </a:xfrm>
          </p:grpSpPr>
          <p:sp>
            <p:nvSpPr>
              <p:cNvPr id="89" name=""/>
              <p:cNvSpPr/>
              <p:nvPr/>
            </p:nvSpPr>
            <p:spPr>
              <a:xfrm>
                <a:off x="8153280" y="3581280"/>
                <a:ext cx="609840" cy="609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29600" y="365760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429000" y="3505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1828800"/>
              <a:ext cx="609840" cy="609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77320" y="2666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8880" y="2666880"/>
              <a:ext cx="609840" cy="60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8320" y="3505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10080" y="2666880"/>
              <a:ext cx="609840" cy="60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48320" y="1828800"/>
              <a:ext cx="609480" cy="609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43000" y="2666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24480" y="2666880"/>
              <a:ext cx="609840" cy="60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0" y="2666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19520" y="3200400"/>
              <a:ext cx="6858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38480" y="3809880"/>
              <a:ext cx="60984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181480" y="3198960"/>
              <a:ext cx="304920" cy="46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2971800"/>
              <a:ext cx="685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52480" y="2971800"/>
              <a:ext cx="533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819520" y="2360160"/>
              <a:ext cx="533160" cy="38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62520" y="2133720"/>
              <a:ext cx="685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1480" y="2286000"/>
              <a:ext cx="38124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9920" y="2971800"/>
              <a:ext cx="30456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34320" y="2971800"/>
              <a:ext cx="30456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48720" y="2971800"/>
              <a:ext cx="2286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1880" y="3276720"/>
              <a:ext cx="1800" cy="228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98" idx="2"/>
              <a:endCxn id="99" idx="2"/>
            </p:cNvCxnSpPr>
            <p:nvPr/>
          </p:nvCxnSpPr>
          <p:spPr>
            <a:xfrm>
              <a:off x="1447560" y="3276720"/>
              <a:ext cx="5182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96" idx="0"/>
              <a:endCxn id="100" idx="0"/>
            </p:cNvCxnSpPr>
            <p:nvPr/>
          </p:nvCxnSpPr>
          <p:spPr>
            <a:xfrm flipV="1" rot="10800000">
              <a:off x="2590200" y="2666520"/>
              <a:ext cx="3124800" cy="252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1295280" y="2819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2819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5320" y="19810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600" y="19810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0060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12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72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7712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29600" y="2819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29600" y="3733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2480" y="26668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2286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19520" y="3352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6200" y="4267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2520" y="12952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81480" y="2209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1480" y="3352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3600" y="259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0" y="259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384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505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72400" y="2590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18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920" y="26668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ta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066680" y="1143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tart with NFA:                                         </a:t>
            </a:r>
            <a:r>
              <a:rPr b="1" lang="en-GB" sz="2400" spc="-1" strike="noStrike">
                <a:solidFill>
                  <a:srgbClr val="ff6699"/>
                </a:solidFill>
                <a:latin typeface="Times New Roman"/>
              </a:rPr>
              <a:t>(a | b)*a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ransition Table for NFA</a:t>
            </a: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 (</a:t>
            </a:r>
            <a:r>
              <a:rPr b="1" lang="en-GB" sz="2800" spc="-1" strike="noStrike">
                <a:solidFill>
                  <a:srgbClr val="ff6699"/>
                </a:solidFill>
                <a:latin typeface="Tahoma"/>
              </a:rPr>
              <a:t>a | b)*abb</a:t>
            </a: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0" lang="en-GB" sz="54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33520" y="1828800"/>
            <a:ext cx="8231040" cy="4867200"/>
            <a:chOff x="533520" y="1828800"/>
            <a:chExt cx="8231040" cy="4867200"/>
          </a:xfrm>
        </p:grpSpPr>
        <p:sp>
          <p:nvSpPr>
            <p:cNvPr id="143" name=""/>
            <p:cNvSpPr/>
            <p:nvPr/>
          </p:nvSpPr>
          <p:spPr>
            <a:xfrm>
              <a:off x="6705720" y="59040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8320" y="59040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{ 10 }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0920" y="59040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59040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05720" y="62992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8320" y="62992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90920" y="62992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62992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10( final )    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5720" y="55087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55087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{  9  }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0920" y="55087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520" y="55087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8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05720" y="511344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8320" y="511344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90920" y="511344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{ 8  }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3520" y="511344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5720" y="47181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{ 1 , 7 }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8320" y="47181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47181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47181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6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5720" y="43228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{ 6 }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8320" y="43228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90920" y="43228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520" y="43228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05720" y="39276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9276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{ 5 }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90920" y="39276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3520" y="392760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05720" y="35323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{ 6 }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48320" y="35323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35323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353232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05720" y="313704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8320" y="313704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90920" y="313704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{ 3 }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313704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05720" y="27417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{ 4 , 2 }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8320" y="27417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90920" y="27417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520" y="274176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05720" y="23464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{ 1 , 7 }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8320" y="23464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90920" y="23464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---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23464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0(star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05720" y="1828800"/>
              <a:ext cx="2057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1" i="1" lang="en-GB" sz="2800" spc="-1" strike="noStrike">
                  <a:solidFill>
                    <a:srgbClr val="00ccff"/>
                  </a:solidFill>
                  <a:latin typeface="Symbol"/>
                  <a:ea typeface="Symbol"/>
                </a:rPr>
                <a:t>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8320" y="1828800"/>
              <a:ext cx="2057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Tahoma"/>
                </a:rPr>
                <a:t>         </a:t>
              </a:r>
              <a:r>
                <a:rPr b="1" lang="en-GB" sz="2800" spc="-1" strike="noStrike">
                  <a:solidFill>
                    <a:srgbClr val="00ccff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90920" y="1828800"/>
              <a:ext cx="2057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Tahoma"/>
                </a:rPr>
                <a:t>          </a:t>
              </a:r>
              <a:r>
                <a:rPr b="1" lang="en-GB" sz="2800" spc="-1" strike="noStrike">
                  <a:solidFill>
                    <a:srgbClr val="00ccff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520" y="1828800"/>
              <a:ext cx="2057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2800" spc="-1" strike="noStrike">
                  <a:solidFill>
                    <a:srgbClr val="ff6699"/>
                  </a:solidFill>
                  <a:latin typeface="Tahoma"/>
                </a:rPr>
                <a:t>stat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520" y="1828800"/>
              <a:ext cx="8229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520" y="234648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520" y="274176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520" y="313704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20" y="353232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3520" y="392760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520" y="432288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520" y="471816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520" y="511344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520" y="550872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590400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520" y="6694560"/>
              <a:ext cx="8229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3520" y="1828800"/>
              <a:ext cx="1440" cy="4865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90920" y="1828800"/>
              <a:ext cx="1440" cy="486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1828800"/>
              <a:ext cx="1440" cy="486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05720" y="1828800"/>
              <a:ext cx="1440" cy="486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763120" y="1828800"/>
              <a:ext cx="1440" cy="4865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3520" y="629928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2120" y="3962520"/>
            <a:ext cx="763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,b)) =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{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0,1,2,4,7},b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dds {5}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   ( since </a:t>
            </a:r>
            <a:r>
              <a:rPr b="1" i="1" lang="en-GB" sz="2000" spc="-1" strike="noStrike">
                <a:solidFill>
                  <a:srgbClr val="ff3300"/>
                </a:solidFill>
                <a:latin typeface="Times New Roman"/>
              </a:rPr>
              <a:t>move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(4,b)=5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rom this we have :  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({5}) = {1,2,4,5,6,7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(since 5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4,  6 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7,  and 1 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2  all by 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-mov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Let C={1,2,4,5,6,7} be a new state.  Define </a:t>
            </a:r>
            <a:r>
              <a:rPr b="1" lang="en-GB" sz="2000" spc="-1" strike="noStrike">
                <a:solidFill>
                  <a:srgbClr val="00cc00"/>
                </a:solidFill>
                <a:latin typeface="Times New Roman"/>
              </a:rPr>
              <a:t>Dtran[A,b] =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143000"/>
            <a:ext cx="7315200" cy="2133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962520"/>
            <a:ext cx="7315200" cy="2133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457200"/>
            <a:ext cx="763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, we calculate :  a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,a))  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b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,b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,a)) =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{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0,1,2,4,7},a))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dds {3,8}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 ( since </a:t>
            </a:r>
            <a:r>
              <a:rPr b="1" i="1" lang="en-GB" sz="2000" spc="-1" strike="noStrike">
                <a:solidFill>
                  <a:srgbClr val="ff3300"/>
                </a:solidFill>
                <a:latin typeface="Times New Roman"/>
              </a:rPr>
              <a:t>move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(2,a)=3 and </a:t>
            </a:r>
            <a:r>
              <a:rPr b="1" i="1" lang="en-GB" sz="2000" spc="-1" strike="noStrike">
                <a:solidFill>
                  <a:srgbClr val="ff3300"/>
                </a:solidFill>
                <a:latin typeface="Times New Roman"/>
              </a:rPr>
              <a:t>move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(7,a)=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rom this we have :  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({3,8}) = {1,2,3,4,6,7,8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(since 3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4,  6 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7,  and 1 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2  all by 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-mov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Let B={1,2,3,4,6,7,8} be a new state.  Define  </a:t>
            </a:r>
            <a:r>
              <a:rPr b="1" lang="en-GB" sz="2000" spc="-1" strike="noStrike">
                <a:solidFill>
                  <a:srgbClr val="00cc00"/>
                </a:solidFill>
                <a:latin typeface="Times New Roman"/>
              </a:rPr>
              <a:t>Dtran[A,a] =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114300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, we calculate for state B on {a,b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B,a)) =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{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,2,3,4,6,7,8},a))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fine  </a:t>
            </a:r>
            <a:r>
              <a:rPr b="1" lang="en-GB" sz="2000" spc="-1" strike="noStrike">
                <a:solidFill>
                  <a:srgbClr val="00cc00"/>
                </a:solidFill>
                <a:latin typeface="Times New Roman"/>
              </a:rPr>
              <a:t>Dtran[B,a] =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B,b)) =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{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,2,3,4,6,7,8},b))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= {1,2,4,5,6,7,9} = 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fine  </a:t>
            </a:r>
            <a:r>
              <a:rPr b="1" lang="en-GB" sz="2000" spc="-1" strike="noStrike">
                <a:solidFill>
                  <a:srgbClr val="00cc00"/>
                </a:solidFill>
                <a:latin typeface="Times New Roman"/>
              </a:rPr>
              <a:t>Dtran[B,b] =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1143000"/>
            <a:ext cx="7620120" cy="266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401940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, we calculate for state C on {a,b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,a)) =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{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,2,4,5,6,7},a))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fine  </a:t>
            </a:r>
            <a:r>
              <a:rPr b="1" lang="en-GB" sz="2000" spc="-1" strike="noStrike">
                <a:solidFill>
                  <a:srgbClr val="00cc00"/>
                </a:solidFill>
                <a:latin typeface="Times New Roman"/>
              </a:rPr>
              <a:t>Dtran[C,a] =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C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b)) =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{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,2,4,5,6,7},b))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= {1,2,4,5,6,7} =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fine  </a:t>
            </a:r>
            <a:r>
              <a:rPr b="1" lang="en-GB" sz="2000" spc="-1" strike="noStrike">
                <a:solidFill>
                  <a:srgbClr val="00cc00"/>
                </a:solidFill>
                <a:latin typeface="Times New Roman"/>
              </a:rPr>
              <a:t>Dtran[C,b] =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3962520"/>
            <a:ext cx="7620120" cy="259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114300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, we calculate for state D on {a,b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,a)) =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{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,2,4,5,6,7,9},a))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fine  </a:t>
            </a:r>
            <a:r>
              <a:rPr b="1" lang="en-GB" sz="2000" spc="-1" strike="noStrike">
                <a:solidFill>
                  <a:srgbClr val="00cc00"/>
                </a:solidFill>
                <a:latin typeface="Times New Roman"/>
              </a:rPr>
              <a:t>Dtran[D,a] =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,b)) =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{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,2,4,5,6,7,9},b))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= {1,2,4,5,6,7,10} =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fine  </a:t>
            </a:r>
            <a:r>
              <a:rPr b="1" lang="en-GB" sz="2000" spc="-1" strike="noStrike">
                <a:solidFill>
                  <a:srgbClr val="00cc00"/>
                </a:solidFill>
                <a:latin typeface="Times New Roman"/>
              </a:rPr>
              <a:t>Dtran[D,b] = 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1143000"/>
            <a:ext cx="7620120" cy="266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4010040"/>
            <a:ext cx="763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inally, we calculate for state E on {a,b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E,a)) =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{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,2,4,5,6,7,10},a))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= {1,2,3,4,6,7,8} =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fine  </a:t>
            </a:r>
            <a:r>
              <a:rPr b="1" lang="en-GB" sz="2000" spc="-1" strike="noStrike">
                <a:solidFill>
                  <a:srgbClr val="00cc00"/>
                </a:solidFill>
                <a:latin typeface="Times New Roman"/>
              </a:rPr>
              <a:t>Dtran[E,a] =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E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b)) =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closure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(move({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,2,4,5,6,7,10},b))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= {1,2,4,5,6,7} =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Define  </a:t>
            </a:r>
            <a:r>
              <a:rPr b="1" lang="en-GB" sz="2000" spc="-1" strike="noStrike">
                <a:solidFill>
                  <a:srgbClr val="00cc00"/>
                </a:solidFill>
                <a:latin typeface="Times New Roman"/>
              </a:rPr>
              <a:t>Dtran[E,b] =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962520"/>
            <a:ext cx="7620120" cy="259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905120" y="1752480"/>
            <a:ext cx="5257800" cy="2456280"/>
            <a:chOff x="1905120" y="1752480"/>
            <a:chExt cx="5257800" cy="2456280"/>
          </a:xfrm>
        </p:grpSpPr>
        <p:sp>
          <p:nvSpPr>
            <p:cNvPr id="222" name=""/>
            <p:cNvSpPr/>
            <p:nvPr/>
          </p:nvSpPr>
          <p:spPr>
            <a:xfrm>
              <a:off x="1905120" y="4191120"/>
              <a:ext cx="5257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9000" y="1828800"/>
              <a:ext cx="1440" cy="236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81480" y="2286000"/>
              <a:ext cx="1800" cy="190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05120" y="2514600"/>
              <a:ext cx="5257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33720" y="20574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cc00"/>
                  </a:solidFill>
                  <a:latin typeface="Times New Roman"/>
                </a:rPr>
                <a:t>Dsta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05320" y="175248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Input Symb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2520" y="213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133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5120" y="259092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A                         B                          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05120" y="289548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B                         B                          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320040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C                         B                          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5120" y="380988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E                         B                          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5120" y="350532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D                         B                          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523880" y="4419720"/>
            <a:ext cx="5867640" cy="2197080"/>
            <a:chOff x="1523880" y="4419720"/>
            <a:chExt cx="5867640" cy="2197080"/>
          </a:xfrm>
        </p:grpSpPr>
        <p:grpSp>
          <p:nvGrpSpPr>
            <p:cNvPr id="236" name=""/>
            <p:cNvGrpSpPr/>
            <p:nvPr/>
          </p:nvGrpSpPr>
          <p:grpSpPr>
            <a:xfrm>
              <a:off x="2286000" y="5638680"/>
              <a:ext cx="685800" cy="685800"/>
              <a:chOff x="2286000" y="5638680"/>
              <a:chExt cx="685800" cy="685800"/>
            </a:xfrm>
          </p:grpSpPr>
          <p:sp>
            <p:nvSpPr>
              <p:cNvPr id="237" name=""/>
              <p:cNvSpPr/>
              <p:nvPr/>
            </p:nvSpPr>
            <p:spPr>
              <a:xfrm>
                <a:off x="2286000" y="563868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62320" y="5715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4495680" y="4800600"/>
              <a:ext cx="685800" cy="685800"/>
              <a:chOff x="4495680" y="4800600"/>
              <a:chExt cx="685800" cy="685800"/>
            </a:xfrm>
          </p:grpSpPr>
          <p:sp>
            <p:nvSpPr>
              <p:cNvPr id="240" name=""/>
              <p:cNvSpPr/>
              <p:nvPr/>
            </p:nvSpPr>
            <p:spPr>
              <a:xfrm>
                <a:off x="4495680" y="480060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72000" y="48769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657600" y="5638680"/>
              <a:ext cx="685800" cy="685800"/>
              <a:chOff x="3657600" y="5638680"/>
              <a:chExt cx="685800" cy="685800"/>
            </a:xfrm>
          </p:grpSpPr>
          <p:sp>
            <p:nvSpPr>
              <p:cNvPr id="243" name=""/>
              <p:cNvSpPr/>
              <p:nvPr/>
            </p:nvSpPr>
            <p:spPr>
              <a:xfrm>
                <a:off x="3657600" y="563868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33920" y="5715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257800" y="5638680"/>
              <a:ext cx="685800" cy="685800"/>
              <a:chOff x="5257800" y="5638680"/>
              <a:chExt cx="685800" cy="685800"/>
            </a:xfrm>
          </p:grpSpPr>
          <p:sp>
            <p:nvSpPr>
              <p:cNvPr id="246" name=""/>
              <p:cNvSpPr/>
              <p:nvPr/>
            </p:nvSpPr>
            <p:spPr>
              <a:xfrm>
                <a:off x="5257800" y="563868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334120" y="5715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705720" y="5638680"/>
              <a:ext cx="685800" cy="685800"/>
              <a:chOff x="6705720" y="5638680"/>
              <a:chExt cx="685800" cy="6858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705720" y="5638680"/>
                <a:ext cx="685800" cy="685800"/>
                <a:chOff x="6705720" y="5638680"/>
                <a:chExt cx="685800" cy="6858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705720" y="5638680"/>
                  <a:ext cx="685800" cy="6858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781680" y="571500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6781680" y="571500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53" name=""/>
            <p:cNvCxnSpPr>
              <a:stCxn id="237" idx="3"/>
              <a:endCxn id="243" idx="1"/>
            </p:cNvCxnSpPr>
            <p:nvPr/>
          </p:nvCxnSpPr>
          <p:spPr>
            <a:xfrm>
              <a:off x="2971440" y="5981760"/>
              <a:ext cx="6865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0" idx="2"/>
              <a:endCxn id="243" idx="0"/>
            </p:cNvCxnSpPr>
            <p:nvPr/>
          </p:nvCxnSpPr>
          <p:spPr>
            <a:xfrm flipV="1" rot="10800000">
              <a:off x="4242600" y="5486040"/>
              <a:ext cx="596160" cy="253080"/>
            </a:xfrm>
            <a:prstGeom prst="curvedConnector5">
              <a:avLst>
                <a:gd name="adj1" fmla="val 49969"/>
                <a:gd name="adj2" fmla="val 50000"/>
                <a:gd name="adj3" fmla="val 49969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50" idx="1"/>
              <a:endCxn id="240" idx="3"/>
            </p:cNvCxnSpPr>
            <p:nvPr/>
          </p:nvCxnSpPr>
          <p:spPr>
            <a:xfrm rot="10800000">
              <a:off x="5180760" y="5142960"/>
              <a:ext cx="1624680" cy="595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1"/>
              <a:endCxn id="243" idx="3"/>
            </p:cNvCxnSpPr>
            <p:nvPr/>
          </p:nvCxnSpPr>
          <p:spPr>
            <a:xfrm flipV="1" rot="10800000">
              <a:off x="4242600" y="6224400"/>
              <a:ext cx="256284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3" idx="2"/>
              <a:endCxn id="243" idx="1"/>
            </p:cNvCxnSpPr>
            <p:nvPr/>
          </p:nvCxnSpPr>
          <p:spPr>
            <a:xfrm rot="10800000">
              <a:off x="3756960" y="6224040"/>
              <a:ext cx="243720" cy="100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6" idx="1"/>
              <a:endCxn id="243" idx="3"/>
            </p:cNvCxnSpPr>
            <p:nvPr/>
          </p:nvCxnSpPr>
          <p:spPr>
            <a:xfrm rot="10800000">
              <a:off x="4342680" y="5981040"/>
              <a:ext cx="1015200" cy="243720"/>
            </a:xfrm>
            <a:prstGeom prst="curvedConnector5">
              <a:avLst>
                <a:gd name="adj1" fmla="val 49982"/>
                <a:gd name="adj2" fmla="val 50000"/>
                <a:gd name="adj3" fmla="val 49982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37" idx="0"/>
              <a:endCxn id="240" idx="1"/>
            </p:cNvCxnSpPr>
            <p:nvPr/>
          </p:nvCxnSpPr>
          <p:spPr>
            <a:xfrm flipV="1">
              <a:off x="2628720" y="5142960"/>
              <a:ext cx="1867320" cy="4957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6" idx="3"/>
              <a:endCxn id="250" idx="1"/>
            </p:cNvCxnSpPr>
            <p:nvPr/>
          </p:nvCxnSpPr>
          <p:spPr>
            <a:xfrm>
              <a:off x="5943240" y="5981760"/>
              <a:ext cx="76284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3"/>
              <a:endCxn id="246" idx="1"/>
            </p:cNvCxnSpPr>
            <p:nvPr/>
          </p:nvCxnSpPr>
          <p:spPr>
            <a:xfrm>
              <a:off x="4343400" y="5981760"/>
              <a:ext cx="915120" cy="2160"/>
            </a:xfrm>
            <a:prstGeom prst="curvedConnector5">
              <a:avLst>
                <a:gd name="adj1" fmla="val 49980"/>
                <a:gd name="adj2" fmla="val 40000"/>
                <a:gd name="adj3" fmla="val 4998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1676520" y="6019920"/>
              <a:ext cx="60948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3" name=""/>
            <p:cNvCxnSpPr>
              <a:stCxn id="240" idx="0"/>
              <a:endCxn id="240" idx="1"/>
            </p:cNvCxnSpPr>
            <p:nvPr/>
          </p:nvCxnSpPr>
          <p:spPr>
            <a:xfrm flipV="1" rot="10800000">
              <a:off x="4595040" y="4800240"/>
              <a:ext cx="243720" cy="100800"/>
            </a:xfrm>
            <a:prstGeom prst="curvedConnector5">
              <a:avLst>
                <a:gd name="adj1" fmla="val 50000"/>
                <a:gd name="adj2" fmla="val 49820"/>
                <a:gd name="adj3" fmla="val 5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4" name=""/>
            <p:cNvSpPr/>
            <p:nvPr/>
          </p:nvSpPr>
          <p:spPr>
            <a:xfrm>
              <a:off x="1523880" y="57150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9588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832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19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8320" y="4419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81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6248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00600" y="6019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4812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19920" y="6172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143000" y="114300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is gives the transition table 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Dtran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for the DFA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9999ff"/>
                </a:solidFill>
                <a:latin typeface="Tahoma"/>
              </a:rPr>
              <a:t>Algorithm</a:t>
            </a: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 For </a:t>
            </a:r>
            <a:r>
              <a:rPr b="0" lang="en-GB" sz="3600" spc="-1" strike="noStrike">
                <a:solidFill>
                  <a:srgbClr val="ffccff"/>
                </a:solidFill>
                <a:latin typeface="Tahoma"/>
              </a:rPr>
              <a:t>Subset Constructio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289160" y="1371600"/>
            <a:ext cx="78483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ush all states in T onto stac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itialize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-closure(T) to 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stack is not empty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o 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op t, the top element, off the stac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ach   state u with edge from t to u labeled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u is not in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-closure(T)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do 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dd u to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-closure(T)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ush u onto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07160" y="137160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computing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-cl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9999ff"/>
                </a:solidFill>
                <a:latin typeface="Tahoma"/>
              </a:rPr>
              <a:t>Algorithm</a:t>
            </a: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 For </a:t>
            </a:r>
            <a:r>
              <a:rPr b="0" lang="en-GB" sz="3600" spc="-1" strike="noStrike">
                <a:solidFill>
                  <a:srgbClr val="ffccff"/>
                </a:solidFill>
                <a:latin typeface="Tahoma"/>
              </a:rPr>
              <a:t>Subset Construction-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289160" y="1371600"/>
            <a:ext cx="784836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itially, 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-closure(s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) is only (unmarked) state in 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Dstate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there is unmarked state T in 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Dstates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o 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ark 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each input symbol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o 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U :=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-closure(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move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T,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U is not in 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Dstates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dd U as an unmarked state to 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Dstate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Dtran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[T,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] := 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