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A10-1B3C-4F07-977B-195DF50B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834-CC9F-4E68-B866-D37E7E95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C09-7C1A-42C2-AD8B-2F909809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FF1-90A5-4283-B7AF-760F4249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9136-CA17-4639-A088-C9E1C14E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C1F4-8B76-4D80-9788-D5B3B73F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9078-F7C5-4FD4-A41E-0224379C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0FD9-6453-453D-9125-4553C4F9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D852-4F0F-4C9F-9109-75D03394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53C7-80A8-4A34-9308-B55833BC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1D7C-911B-49E8-9435-EF143742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ED8-5D1E-42FE-9861-F8300217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DB0B-237F-4BF0-8A02-D3AAFE67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DF96-CA62-4A88-B746-858D38A6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C067-9C8F-458A-9C33-F573986D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0903-4B51-4C21-9C1B-1127A5EB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D99C-A18C-4431-A291-1260D1CF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72B-2CD8-48CD-A976-C6F1836D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130-6F35-421A-91C8-68C69D79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F08-732B-4A34-9AC3-3E8B1495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D8B-8F6A-4718-B145-D667EDDC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69A-459A-46DC-B215-B8E75369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755-A01B-44AC-BC2E-DDDE3579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158-46AD-4AF5-8E6D-3BBAC315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B0A7-7B7E-4F58-9600-1602295196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89B9-6E99-4FBD-A03A-7ED761B9C4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6840" y="3962160"/>
            <a:ext cx="6553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Prepared B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Abhisekh Biswas - 04CS3002</a:t>
            </a: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600200" y="1523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rmediate Code Generation 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904760" y="1066680"/>
            <a:ext cx="4496040" cy="3657600"/>
            <a:chOff x="1904760" y="1066680"/>
            <a:chExt cx="4496040" cy="3657600"/>
          </a:xfrm>
        </p:grpSpPr>
        <p:sp>
          <p:nvSpPr>
            <p:cNvPr id="216" name=""/>
            <p:cNvSpPr/>
            <p:nvPr/>
          </p:nvSpPr>
          <p:spPr>
            <a:xfrm>
              <a:off x="3124080" y="1066680"/>
              <a:ext cx="12189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lsest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04760" y="1904760"/>
              <a:ext cx="10666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l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2160" y="1829160"/>
              <a:ext cx="1218960" cy="68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666520" y="1371600"/>
              <a:ext cx="6858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38480" y="137160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0560" y="2743200"/>
              <a:ext cx="76176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33560" y="2819880"/>
              <a:ext cx="685800" cy="38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47960" y="2743200"/>
              <a:ext cx="83808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76360" y="236232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038480" y="243828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0600" y="2362320"/>
              <a:ext cx="304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52680" y="3581280"/>
              <a:ext cx="838080" cy="53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47960" y="36579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10080" y="3581280"/>
              <a:ext cx="990360" cy="53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52680" y="4343760"/>
              <a:ext cx="761760" cy="38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15000" y="4343760"/>
              <a:ext cx="685800" cy="38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962160" y="32004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876200" y="320040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7800" y="3123720"/>
              <a:ext cx="685800" cy="5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33560" y="403884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19920" y="4038840"/>
              <a:ext cx="7596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see A DAG gives the same information but in a more compact manner because common  sub-expression are identifi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tFix Notation can be used to represent tree in linearized manner.In PostFix Notation edges of tree do not appear explicit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omic Sans MS"/>
              </a:rPr>
              <a:t>Three Address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other way to represent tree in lenearized form is Three-address-code No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ree Address Code method internal nodes are given names. It is a low level Intermediate code represen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omic Sans MS"/>
              </a:rPr>
              <a:t>Exampl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=y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x, y and z  are names, constants or Compiler generated  temporari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ands for any oper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934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ff"/>
                </a:solidFill>
                <a:uFillTx/>
                <a:latin typeface="Comic Sans MS"/>
              </a:rPr>
              <a:t>Intermediate Cod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mediate Code is generated using the Parse rule Producing a language from the input langu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Utility of Intermediate Code Gener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Suppose We have n-source languages and m-Target languages. Without Intermediate code we will change each source   language  into target language directly. So, for each source-target pair we will need a compiler. Hence we will require  (n*m)  Compilers, one for each pair. If we Use Intermediate code We will require n-Compilers to convert each source language into Intermediate code and m-Compilers to convert Intermediate code into m-target languages. Thus We require only  (n+m)  Compiler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argeting is facilitated; a compiler for a different machine can be created by attaching a Back-end (which generate Target Code) for the new machine to an existing Front-end (which generate Intermediate Code)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achine Independent Code-Optimizer can be applied to the Intermediate code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mediate code is simple enough to be easily converted to any target co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 enough to represent all the complex structure of high level language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Types of Intermediate </a:t>
            </a:r>
            <a:r>
              <a:rPr b="0" lang="en-US" sz="4400" spc="-1" strike="noStrike">
                <a:solidFill>
                  <a:srgbClr val="0099ff"/>
                </a:solidFill>
                <a:latin typeface="Comic Sans MS"/>
              </a:rPr>
              <a:t>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828800" y="2971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 Level Represen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w level Representation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omic Sans MS"/>
              </a:rPr>
              <a:t>Code Optimiz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e the total intermediate instruction and optimiz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Redundancy in Co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find common subexpr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heck for depend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etect dead co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BASIC TYPES OF OPTIMIZ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&gt;machine dependent i.e utilizing hardware specification for max efficiency.but range of compatibility is sm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&gt;machine independent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tax Tree is optimization of high level langu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se we have following co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(x&lt;0)  then   x=3*(y+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se   y=y+1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1371600" y="1066680"/>
            <a:ext cx="6172200" cy="5181840"/>
            <a:chOff x="1371600" y="1066680"/>
            <a:chExt cx="6172200" cy="5181840"/>
          </a:xfrm>
        </p:grpSpPr>
        <p:sp>
          <p:nvSpPr>
            <p:cNvPr id="166" name=""/>
            <p:cNvSpPr/>
            <p:nvPr/>
          </p:nvSpPr>
          <p:spPr>
            <a:xfrm>
              <a:off x="3276360" y="1066680"/>
              <a:ext cx="13716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fst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71600" y="1981440"/>
              <a:ext cx="68544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1981440"/>
              <a:ext cx="9907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as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2880" y="1981440"/>
              <a:ext cx="761760" cy="45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81280" y="1981440"/>
              <a:ext cx="9144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h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52480" y="2743560"/>
              <a:ext cx="380520" cy="38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52680" y="2743560"/>
              <a:ext cx="457200" cy="38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1960" y="2743560"/>
              <a:ext cx="761760" cy="532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l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71800" y="236196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980720" y="23619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742840" y="2286360"/>
              <a:ext cx="7596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981080" y="1448280"/>
              <a:ext cx="19051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200400" y="1523880"/>
              <a:ext cx="761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448280"/>
              <a:ext cx="2286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4800" y="1371600"/>
              <a:ext cx="9903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2819520"/>
              <a:ext cx="456840" cy="38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29200" y="2743560"/>
              <a:ext cx="457200" cy="45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5000" y="2743560"/>
              <a:ext cx="609480" cy="45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571640" y="2286360"/>
              <a:ext cx="533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57800" y="2286360"/>
              <a:ext cx="75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62720" y="2286360"/>
              <a:ext cx="53316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90560" y="3657240"/>
              <a:ext cx="76176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86200" y="3886200"/>
              <a:ext cx="60948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81480" y="3733920"/>
              <a:ext cx="9144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47760" y="3048120"/>
              <a:ext cx="281952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343040" y="3124080"/>
              <a:ext cx="16002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638680" y="3124080"/>
              <a:ext cx="4572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9160" y="4572000"/>
              <a:ext cx="457200" cy="38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496040"/>
              <a:ext cx="9140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4496040"/>
              <a:ext cx="457200" cy="38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200040" y="4038840"/>
              <a:ext cx="2057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572000" y="411444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486040" y="411444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1320" y="1981440"/>
              <a:ext cx="1143000" cy="38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lsest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43400" y="1371600"/>
              <a:ext cx="1676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95480" y="5181840"/>
              <a:ext cx="6858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91120" y="5181840"/>
              <a:ext cx="6854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34120" y="5181840"/>
              <a:ext cx="838080" cy="38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95480" y="5867280"/>
              <a:ext cx="68580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62720" y="5867280"/>
              <a:ext cx="609480" cy="38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352320" y="4800960"/>
              <a:ext cx="60948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43400" y="4876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47960" y="4800960"/>
              <a:ext cx="91440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0400" y="55623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867280" y="548676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10640" y="1981440"/>
              <a:ext cx="533160" cy="38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96040" y="1294920"/>
              <a:ext cx="2590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0:04:46Z</dcterms:created>
  <dc:creator>abhisek</dc:creator>
  <dc:description/>
  <dc:language>en-US</dc:language>
  <cp:lastModifiedBy>abhisek</cp:lastModifiedBy>
  <dcterms:modified xsi:type="dcterms:W3CDTF">2006-11-25T22:09:03Z</dcterms:modified>
  <cp:revision>12</cp:revision>
  <dc:subject/>
  <dc:title>Intermediate Code Generation  </dc:title>
</cp:coreProperties>
</file>